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5680" y="1206000"/>
            <a:ext cx="45259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65680" y="2625840"/>
            <a:ext cx="4525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65680" y="4841640"/>
            <a:ext cx="4525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65680" y="1206000"/>
            <a:ext cx="45259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65680" y="2625840"/>
            <a:ext cx="22086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85160" y="2625840"/>
            <a:ext cx="22086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65680" y="4841640"/>
            <a:ext cx="22086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485160" y="4841640"/>
            <a:ext cx="22086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65680" y="1206000"/>
            <a:ext cx="45259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65680" y="2625840"/>
            <a:ext cx="14572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96040" y="2625840"/>
            <a:ext cx="14572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26760" y="2625840"/>
            <a:ext cx="14572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165680" y="4841640"/>
            <a:ext cx="14572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696040" y="4841640"/>
            <a:ext cx="14572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226760" y="4841640"/>
            <a:ext cx="14572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65680" y="1206000"/>
            <a:ext cx="45259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165680" y="2625840"/>
            <a:ext cx="4525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65680" y="1206000"/>
            <a:ext cx="45259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165680" y="2625840"/>
            <a:ext cx="4525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65680" y="1206000"/>
            <a:ext cx="45259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65680" y="2625840"/>
            <a:ext cx="22086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485160" y="2625840"/>
            <a:ext cx="22086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65680" y="1206000"/>
            <a:ext cx="45259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165680" y="1206000"/>
            <a:ext cx="45259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65680" y="1206000"/>
            <a:ext cx="45259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65680" y="2625840"/>
            <a:ext cx="22086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485160" y="2625840"/>
            <a:ext cx="22086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165680" y="4841640"/>
            <a:ext cx="22086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65680" y="1206000"/>
            <a:ext cx="45259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65680" y="2625840"/>
            <a:ext cx="22086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485160" y="2625840"/>
            <a:ext cx="22086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85160" y="4841640"/>
            <a:ext cx="22086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65680" y="1206000"/>
            <a:ext cx="45259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65680" y="2625840"/>
            <a:ext cx="22086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485160" y="2625840"/>
            <a:ext cx="22086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65680" y="4841640"/>
            <a:ext cx="4525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 txBox="1"/>
          <p:nvPr/>
        </p:nvSpPr>
        <p:spPr>
          <a:xfrm>
            <a:off x="1352520" y="304920"/>
            <a:ext cx="4210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Arial Cyr"/>
                <a:ea typeface="Arial Cyr"/>
              </a:rPr>
              <a:t>Структура Учебно-методического комплекса на базе СНИ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1962000" y="711360"/>
            <a:ext cx="3981600" cy="40644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1943280" y="812880"/>
            <a:ext cx="4000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800" spc="-1" strike="noStrike">
                <a:solidFill>
                  <a:srgbClr val="000000"/>
                </a:solidFill>
                <a:latin typeface="Arial Cyr"/>
                <a:ea typeface="Arial Cyr"/>
              </a:rPr>
              <a:t>УЧЕБНО-МЕТОДИЧЕСКИЙ КОМПЛЕКС НА БАЗЕ СНИ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2114640" y="1219320"/>
            <a:ext cx="3600360" cy="3049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133720" y="1219320"/>
            <a:ext cx="3581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Arial Cyr"/>
                <a:ea typeface="Arial Cyr"/>
              </a:rPr>
              <a:t>средства обуч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787320"/>
            <a:ext cx="11239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Arial Cyr"/>
                <a:ea typeface="Arial Cyr"/>
              </a:rPr>
              <a:t>Учебно-методическая литерату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711360"/>
            <a:ext cx="1295280" cy="812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600200" y="907920"/>
            <a:ext cx="36828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00480" y="1117440"/>
            <a:ext cx="0" cy="101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6160" y="1117440"/>
            <a:ext cx="0" cy="101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727280"/>
            <a:ext cx="3124080" cy="406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2280" y="1828800"/>
            <a:ext cx="3429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800" spc="-1" strike="noStrike">
                <a:solidFill>
                  <a:srgbClr val="000000"/>
                </a:solidFill>
                <a:latin typeface="Arial Cyr"/>
                <a:ea typeface="Arial Cyr"/>
              </a:rPr>
              <a:t>средства обучения для поддержки процесса преподаван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9080" y="1523880"/>
            <a:ext cx="0" cy="203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336760"/>
            <a:ext cx="186696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2336760"/>
            <a:ext cx="2057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Arial Cyr"/>
                <a:ea typeface="Arial Cyr"/>
              </a:rPr>
              <a:t>учебно-наглядные средства обучен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47800" y="2336760"/>
            <a:ext cx="628560" cy="177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647800" y="2336760"/>
            <a:ext cx="6285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Arial Cyr"/>
                <a:ea typeface="Arial Cyr"/>
              </a:rPr>
              <a:t>модел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2793960"/>
            <a:ext cx="457200" cy="177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95480" y="2793960"/>
            <a:ext cx="609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Arial Cyr"/>
                <a:ea typeface="Arial Cyr"/>
              </a:rPr>
              <a:t>прибор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2133720"/>
            <a:ext cx="0" cy="203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09960" y="2133720"/>
            <a:ext cx="0" cy="203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133720"/>
            <a:ext cx="0" cy="660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844720"/>
            <a:ext cx="1123920" cy="279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2844720"/>
            <a:ext cx="1123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Arial Cyr"/>
                <a:ea typeface="Arial Cyr"/>
              </a:rPr>
              <a:t>пособия печатны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2641680"/>
            <a:ext cx="0" cy="203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429000"/>
            <a:ext cx="10098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3454560"/>
            <a:ext cx="114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Arial Cyr"/>
                <a:ea typeface="Arial Cyr"/>
              </a:rPr>
              <a:t>демонстрационные учебные таблиц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165560"/>
            <a:ext cx="1123920" cy="482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990720" y="3124080"/>
            <a:ext cx="144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3124080"/>
            <a:ext cx="0" cy="1041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4165560"/>
            <a:ext cx="11239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Arial Cyr"/>
                <a:ea typeface="Arial Cyr"/>
              </a:rPr>
              <a:t>раздаточные материалы (карточки-задания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86080" y="2641680"/>
            <a:ext cx="0" cy="162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2960" y="2641680"/>
            <a:ext cx="0" cy="1117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2641680"/>
            <a:ext cx="0" cy="711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38360" y="2844720"/>
            <a:ext cx="723960" cy="203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600200" y="2844720"/>
            <a:ext cx="838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Arial Cyr"/>
                <a:ea typeface="Arial Cyr"/>
              </a:rPr>
              <a:t>диафильм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76520" y="32004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600200" y="3200400"/>
            <a:ext cx="838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Arial Cyr"/>
                <a:ea typeface="Arial Cyr"/>
              </a:rPr>
              <a:t>диапозитив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33526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3556080"/>
            <a:ext cx="762120" cy="406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542960" y="3556080"/>
            <a:ext cx="895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Arial Cyr"/>
                <a:ea typeface="Arial Cyr"/>
              </a:rPr>
              <a:t>кинофильмы, видеофильм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42960" y="375912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4140360"/>
            <a:ext cx="762120" cy="279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542960" y="4140360"/>
            <a:ext cx="895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Arial Cyr"/>
                <a:ea typeface="Arial Cyr"/>
              </a:rPr>
              <a:t>транспарант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283360"/>
            <a:ext cx="255276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4920" y="5283360"/>
            <a:ext cx="255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Arial Cyr"/>
                <a:ea typeface="Arial Cyr"/>
              </a:rPr>
              <a:t>программные средств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2133720"/>
            <a:ext cx="0" cy="3149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579132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5791320"/>
            <a:ext cx="10666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Arial Cyr"/>
                <a:ea typeface="Arial Cyr"/>
              </a:rPr>
              <a:t>ПС для обучения взаимодействию с ЭВ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3080" y="6603840"/>
            <a:ext cx="1486080" cy="711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43080" y="6603840"/>
            <a:ext cx="1638360" cy="6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Arial Cyr"/>
                <a:ea typeface="Arial Cyr"/>
              </a:rPr>
              <a:t>базовое ПО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Arial Cyr"/>
                <a:ea typeface="Arial Cyr"/>
              </a:rPr>
              <a:t>- операционная система ЛС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Arial Cyr"/>
                <a:ea typeface="Arial Cyr"/>
              </a:rPr>
              <a:t>- тестовая систе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5791320"/>
            <a:ext cx="5335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600200" y="5791320"/>
            <a:ext cx="533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Arial Cyr"/>
                <a:ea typeface="Arial Cyr"/>
              </a:rPr>
              <a:t>ИП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9960" y="558792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00240" y="5587920"/>
            <a:ext cx="0" cy="203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5587920"/>
            <a:ext cx="0" cy="203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617220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828800" y="6172200"/>
            <a:ext cx="12193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Arial Cyr"/>
                <a:ea typeface="Arial Cyr"/>
              </a:rPr>
              <a:t>ПС для поддержки процесса преподаван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5591160"/>
            <a:ext cx="0" cy="581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4114800"/>
            <a:ext cx="914400" cy="355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419200" y="4140360"/>
            <a:ext cx="10857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Arial Cyr"/>
                <a:ea typeface="Arial Cyr"/>
              </a:rPr>
              <a:t>электронные конструктор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213372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57600" y="1727280"/>
            <a:ext cx="1143000" cy="863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657600" y="1727280"/>
            <a:ext cx="11430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800" spc="-1" strike="noStrike">
                <a:solidFill>
                  <a:srgbClr val="000000"/>
                </a:solidFill>
                <a:latin typeface="Arial Cyr"/>
                <a:ea typeface="Arial Cyr"/>
              </a:rPr>
              <a:t>предметно-ориентированные среды обучающего и развивающего назначен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57560" y="1523880"/>
            <a:ext cx="0" cy="203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43480" y="15238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3352680"/>
            <a:ext cx="1542960" cy="812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657600" y="3352680"/>
            <a:ext cx="14860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800" spc="-1" strike="noStrike">
                <a:solidFill>
                  <a:srgbClr val="000000"/>
                </a:solidFill>
                <a:latin typeface="Arial Cyr"/>
                <a:ea typeface="Arial Cyr"/>
              </a:rPr>
              <a:t>объектно-ориентированные программные системы для формирования информационной культур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37000" y="3886200"/>
            <a:ext cx="120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29160" y="1727280"/>
            <a:ext cx="1143000" cy="812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429160" y="1727280"/>
            <a:ext cx="11430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800" spc="-1" strike="noStrike">
                <a:solidFill>
                  <a:srgbClr val="000000"/>
                </a:solidFill>
                <a:latin typeface="Arial Cyr"/>
                <a:ea typeface="Arial Cyr"/>
              </a:rPr>
              <a:t>системы искуственного интеллекта для организации процесса самообучен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205740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57640" y="4775040"/>
            <a:ext cx="685800" cy="406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57640" y="4775040"/>
            <a:ext cx="685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Arial Cyr"/>
                <a:ea typeface="Arial Cyr"/>
              </a:rPr>
              <a:t>текстовый редакто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4775040"/>
            <a:ext cx="838080" cy="406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114800" y="477504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Arial Cyr"/>
                <a:ea typeface="Arial Cyr"/>
              </a:rPr>
              <a:t>музыкальный редакто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775040"/>
            <a:ext cx="838080" cy="406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086440" y="4775040"/>
            <a:ext cx="933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Arial Cyr"/>
                <a:ea typeface="Arial Cyr"/>
              </a:rPr>
              <a:t>графический редакто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165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43680" y="4165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14760" y="4165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57560" y="4165560"/>
            <a:ext cx="0" cy="1320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48280" y="4165560"/>
            <a:ext cx="0" cy="1320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5486400"/>
            <a:ext cx="97164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429000" y="5486400"/>
            <a:ext cx="9716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Arial Cyr"/>
                <a:ea typeface="Arial Cyr"/>
              </a:rPr>
              <a:t>учебные электронные таблиц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6480" y="5486400"/>
            <a:ext cx="876240" cy="406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6120" y="5486400"/>
            <a:ext cx="876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Arial Cyr"/>
                <a:ea typeface="Arial Cyr"/>
              </a:rPr>
              <a:t>учебная база данных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29160" y="3352680"/>
            <a:ext cx="127620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429160" y="3352680"/>
            <a:ext cx="12762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800" spc="-1" strike="noStrike">
                <a:solidFill>
                  <a:srgbClr val="000000"/>
                </a:solidFill>
                <a:latin typeface="Arial Cyr"/>
                <a:ea typeface="Arial Cyr"/>
              </a:rPr>
              <a:t>учебное, демонстрационное оборудование, сопрягаемое с ЭВ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15238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28954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289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603840"/>
            <a:ext cx="1562040" cy="63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124080" y="6603840"/>
            <a:ext cx="15048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Arial Cyr"/>
                <a:ea typeface="Arial Cyr"/>
              </a:rPr>
              <a:t>учебные роботы, имитирующие технические устройства и механизмы, управляемые ЭВ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7315200"/>
            <a:ext cx="152388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7365960"/>
            <a:ext cx="17524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Arial Cyr"/>
                <a:ea typeface="Arial Cyr"/>
              </a:rPr>
              <a:t>средства пространственного ввода и манипулирования текстовой и графической информацие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86280" y="6299280"/>
            <a:ext cx="3371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3962520"/>
            <a:ext cx="0" cy="2336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8178840"/>
            <a:ext cx="2857680" cy="50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00400" y="8178840"/>
            <a:ext cx="28576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Arial Cyr"/>
                <a:ea typeface="Arial Cyr"/>
              </a:rPr>
              <a:t>комплект датчиков и устройств, обеспечивающих получение информации о регулируемом физическом параметре или процесс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58040" y="6299280"/>
            <a:ext cx="0" cy="203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58080" y="833112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629928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62992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79800" y="446724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68480" y="2635200"/>
            <a:ext cx="0" cy="209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486080" y="4267080"/>
            <a:ext cx="11412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lient</dc:creator>
  <dc:description/>
  <dc:language>en-US</dc:language>
  <cp:lastModifiedBy>Klient</cp:lastModifiedBy>
  <cp:revision>0</cp:revision>
  <dc:subject/>
  <dc:title>Çàãîëîâîê ñëàéäà îòñóòñòâóåò</dc:title>
</cp:coreProperties>
</file>