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7315200" cy="9907588"/>
  <p:notesSz cx="6858000" cy="9317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67C7E-7FAE-4ADC-AB9F-CA9E6A676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91640" y="659880"/>
            <a:ext cx="621828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91640" y="2641680"/>
            <a:ext cx="62182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791640" y="5746320"/>
            <a:ext cx="62182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1D35C-FC4C-4C2C-BB49-D29E2FE57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91640" y="659880"/>
            <a:ext cx="621828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91640" y="2641680"/>
            <a:ext cx="30344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978360" y="2641680"/>
            <a:ext cx="30344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791640" y="5746320"/>
            <a:ext cx="30344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978360" y="5746320"/>
            <a:ext cx="30344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B3DAA-3080-4363-A50F-9F3A3205B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791640" y="659880"/>
            <a:ext cx="621828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791640" y="2641680"/>
            <a:ext cx="20019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2894040" y="2641680"/>
            <a:ext cx="20019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6440" y="2641680"/>
            <a:ext cx="20019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791640" y="5746320"/>
            <a:ext cx="20019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2894040" y="5746320"/>
            <a:ext cx="20019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4996440" y="5746320"/>
            <a:ext cx="20019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DEAB0-04D4-49F7-9612-C8C74EB09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9218E-1535-427D-B7BC-0A293B996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91640" y="659880"/>
            <a:ext cx="621828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91640" y="2641680"/>
            <a:ext cx="621828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BAA83-9FE0-4632-8D8B-6E4FD6922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91640" y="659880"/>
            <a:ext cx="621828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91640" y="2641680"/>
            <a:ext cx="621828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83197-3B53-4CB9-A6AC-506C1CEED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91640" y="659880"/>
            <a:ext cx="621828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91640" y="2641680"/>
            <a:ext cx="30344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978360" y="2641680"/>
            <a:ext cx="30344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66A02-CC7F-4F00-BAEA-37BCA28C0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91640" y="659880"/>
            <a:ext cx="621828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7684B-B749-487F-B48C-A940931E3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91640" y="659880"/>
            <a:ext cx="621828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4F074-DB83-470C-924D-B3267EC0A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91640" y="659880"/>
            <a:ext cx="621828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91640" y="2641680"/>
            <a:ext cx="30344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978360" y="2641680"/>
            <a:ext cx="30344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91640" y="5746320"/>
            <a:ext cx="30344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C1FC6-AB38-46E3-A4C2-227077938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91640" y="659880"/>
            <a:ext cx="621828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791640" y="2641680"/>
            <a:ext cx="621828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156C9-E86E-43AE-A580-7E33892A8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91640" y="659880"/>
            <a:ext cx="621828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91640" y="2641680"/>
            <a:ext cx="30344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978360" y="2641680"/>
            <a:ext cx="30344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978360" y="5746320"/>
            <a:ext cx="30344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E2F03-6C36-428E-8143-6FDB0AA46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91640" y="659880"/>
            <a:ext cx="621828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91640" y="2641680"/>
            <a:ext cx="30344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978360" y="2641680"/>
            <a:ext cx="30344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91640" y="5746320"/>
            <a:ext cx="62182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40D8D-8A21-4B29-A696-C6E229F0C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91640" y="659880"/>
            <a:ext cx="621828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91640" y="2641680"/>
            <a:ext cx="62182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91640" y="5746320"/>
            <a:ext cx="62182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E8613-308C-46E2-938B-8D0B17267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91640" y="659880"/>
            <a:ext cx="621828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91640" y="2641680"/>
            <a:ext cx="30344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978360" y="2641680"/>
            <a:ext cx="30344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91640" y="5746320"/>
            <a:ext cx="30344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978360" y="5746320"/>
            <a:ext cx="30344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AB159-240F-413A-8D3E-12118C44B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91640" y="659880"/>
            <a:ext cx="621828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91640" y="2641680"/>
            <a:ext cx="20019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894040" y="2641680"/>
            <a:ext cx="20019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996440" y="2641680"/>
            <a:ext cx="20019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91640" y="5746320"/>
            <a:ext cx="20019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2894040" y="5746320"/>
            <a:ext cx="20019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4996440" y="5746320"/>
            <a:ext cx="20019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24BF8-5857-4F76-9079-AD4C0F3DE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91640" y="659880"/>
            <a:ext cx="621828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91640" y="2641680"/>
            <a:ext cx="621828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B47ED-B52B-4C8A-B3F9-E1D4AB96E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91640" y="659880"/>
            <a:ext cx="621828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91640" y="2641680"/>
            <a:ext cx="30344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3978360" y="2641680"/>
            <a:ext cx="30344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D9FA4-80B9-451B-93A0-EE7A00EE4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91640" y="659880"/>
            <a:ext cx="621828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32FC2-78A1-4DC2-9C10-1F9E4BFCC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791640" y="659880"/>
            <a:ext cx="621828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36BEA-1A06-434C-A941-96E13D5BD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91640" y="659880"/>
            <a:ext cx="621828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91640" y="2641680"/>
            <a:ext cx="30344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978360" y="2641680"/>
            <a:ext cx="30344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791640" y="5746320"/>
            <a:ext cx="30344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146AB-2D75-4E3A-A876-091DECCB5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91640" y="659880"/>
            <a:ext cx="621828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91640" y="2641680"/>
            <a:ext cx="30344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978360" y="2641680"/>
            <a:ext cx="30344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978360" y="5746320"/>
            <a:ext cx="30344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BB1AC-8B3A-4881-BF4E-A247FCE8D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91640" y="659880"/>
            <a:ext cx="621828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91640" y="2641680"/>
            <a:ext cx="30344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978360" y="2641680"/>
            <a:ext cx="30344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91640" y="5746320"/>
            <a:ext cx="62182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CF088-734D-4525-A989-ADB2EC5BD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097400" cy="9905760"/>
            <a:chOff x="0" y="0"/>
            <a:chExt cx="7097400" cy="9905760"/>
          </a:xfrm>
        </p:grpSpPr>
        <p:sp>
          <p:nvSpPr>
            <p:cNvPr id="1" name=""/>
            <p:cNvSpPr/>
            <p:nvPr/>
          </p:nvSpPr>
          <p:spPr>
            <a:xfrm>
              <a:off x="426600" y="343440"/>
              <a:ext cx="6670800" cy="92318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2" name="minispir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850680" cy="990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812520" y="2311200"/>
              <a:ext cx="619740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91640" y="659880"/>
            <a:ext cx="621828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791640" y="2641680"/>
            <a:ext cx="621828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792000" y="8805960"/>
            <a:ext cx="152424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743200" y="8805960"/>
            <a:ext cx="231624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5486040" y="8805960"/>
            <a:ext cx="152388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E80F2-1FF5-4D9A-865B-32C93D48D0AD}" type="slidenum">
              <a:rPr b="0" lang="ru-RU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7097400" cy="9905760"/>
            <a:chOff x="0" y="0"/>
            <a:chExt cx="7097400" cy="9905760"/>
          </a:xfrm>
        </p:grpSpPr>
        <p:sp>
          <p:nvSpPr>
            <p:cNvPr id="46" name=""/>
            <p:cNvSpPr/>
            <p:nvPr/>
          </p:nvSpPr>
          <p:spPr>
            <a:xfrm>
              <a:off x="426600" y="343440"/>
              <a:ext cx="6670800" cy="9231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47" name="minispir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850680" cy="9905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9680" y="2781360"/>
            <a:ext cx="621828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769680" y="8811720"/>
            <a:ext cx="15238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2720880" y="8811720"/>
            <a:ext cx="23162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5464080" y="8811720"/>
            <a:ext cx="15242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33249-E64A-4ECC-A726-8CEE9E8FD701}" type="slidenum">
              <a:rPr b="0" lang="ru-RU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50880" y="228600"/>
            <a:ext cx="65023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6ff33"/>
                </a:solidFill>
                <a:latin typeface="Times New Roman"/>
              </a:rPr>
              <a:t>Московский государственный колледж информационных технологий</a:t>
            </a:r>
            <a:endParaRPr b="0" lang="en-US" sz="1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19320" y="7098840"/>
            <a:ext cx="3047760" cy="10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0099"/>
                </a:solidFill>
                <a:latin typeface="Times New Roman"/>
              </a:rPr>
              <a:t>Работу выполнил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0099"/>
                </a:solidFill>
                <a:latin typeface="Times New Roman"/>
              </a:rPr>
              <a:t>Студент</a:t>
            </a:r>
            <a:r>
              <a:rPr b="0" lang="ru-RU" sz="16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1" i="1" lang="ru-RU" sz="1600" spc="-1" strike="noStrike">
                <a:solidFill>
                  <a:srgbClr val="cc0066"/>
                </a:solidFill>
                <a:latin typeface="Times New Roman"/>
              </a:rPr>
              <a:t>гр. П-406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cc0066"/>
                </a:solidFill>
                <a:latin typeface="Times New Roman"/>
              </a:rPr>
              <a:t>Коновалов С.Г.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357280" y="2558880"/>
            <a:ext cx="3048120" cy="27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031840" y="2724120"/>
            <a:ext cx="3048120" cy="272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2925720" y="4057560"/>
            <a:ext cx="234972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КУРСОВАЯ РАБОТА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3657600" y="4800600"/>
            <a:ext cx="795240" cy="264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ff9900"/>
                </a:solidFill>
                <a:latin typeface="Arial"/>
              </a:rPr>
              <a:t>на тему:</a:t>
            </a:r>
            <a:endParaRPr b="0" lang="en-US" sz="1600" spc="1" strike="noStrike">
              <a:ln w="9360">
                <a:solidFill>
                  <a:srgbClr val="ff6600"/>
                </a:solidFill>
                <a:miter/>
              </a:ln>
              <a:solidFill>
                <a:srgbClr val="ff9900"/>
              </a:solidFill>
              <a:latin typeface="Arial"/>
              <a:ea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544760" y="5460840"/>
            <a:ext cx="4957560" cy="24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3366ff"/>
                  </a:solidFill>
                  <a:miter/>
                </a:ln>
                <a:solidFill>
                  <a:srgbClr val="3366ff"/>
                </a:solidFill>
                <a:latin typeface="Arial"/>
              </a:rPr>
              <a:t>ОПТИМИЗАЦИЯ ПРОИЗВОДСТВЕННОЙ ПРОГРАММЫ </a:t>
            </a:r>
            <a:endParaRPr b="0" lang="en-US" sz="1600" spc="1" strike="noStrike">
              <a:ln w="9360">
                <a:solidFill>
                  <a:srgbClr val="3366ff"/>
                </a:solidFill>
                <a:miter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357280" y="5791320"/>
            <a:ext cx="3229200" cy="264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3366ff"/>
                  </a:solidFill>
                  <a:miter/>
                </a:ln>
                <a:solidFill>
                  <a:srgbClr val="3366ff"/>
                </a:solidFill>
                <a:latin typeface="Arial"/>
              </a:rPr>
              <a:t>ЗАДАННОЙ КОМПЛЕКТНОСТИ</a:t>
            </a:r>
            <a:endParaRPr b="0" lang="en-US" sz="1600" spc="1" strike="noStrike">
              <a:ln w="9360">
                <a:solidFill>
                  <a:srgbClr val="3366ff"/>
                </a:solidFill>
                <a:miter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819600" y="7016760"/>
            <a:ext cx="3047760" cy="10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0099"/>
                </a:solidFill>
                <a:latin typeface="Times New Roman"/>
              </a:rPr>
              <a:t>Работу проверили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298440" indent="-298440"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0099"/>
                </a:solidFill>
                <a:latin typeface="Times New Roman"/>
              </a:rPr>
              <a:t>преподаватели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298440" indent="-298440"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cc0066"/>
                </a:solidFill>
                <a:latin typeface="Times New Roman"/>
              </a:rPr>
              <a:t>Р.Н. Капустина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298440" indent="-298440"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cc0066"/>
                </a:solidFill>
                <a:latin typeface="Times New Roman"/>
              </a:rPr>
              <a:t>С.Б. Токарев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138320" y="2438280"/>
            <a:ext cx="5445000" cy="7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cc00"/>
                </a:solidFill>
                <a:latin typeface="Times New Roman"/>
              </a:rPr>
              <a:t>Языки программирования и технологии разработки программного обеспечения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738600" y="8832960"/>
            <a:ext cx="105732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ff"/>
                </a:solidFill>
                <a:latin typeface="Times New Roman"/>
              </a:rPr>
              <a:t>1997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99" name="M0Q7M7N8" descr=""/>
          <p:cNvPicPr/>
          <p:nvPr/>
        </p:nvPicPr>
        <p:blipFill>
          <a:blip r:embed="rId1"/>
          <a:stretch/>
        </p:blipFill>
        <p:spPr>
          <a:xfrm>
            <a:off x="1951200" y="990720"/>
            <a:ext cx="1409400" cy="1066680"/>
          </a:xfrm>
          <a:prstGeom prst="rect">
            <a:avLst/>
          </a:prstGeom>
          <a:ln w="0">
            <a:noFill/>
          </a:ln>
        </p:spPr>
      </p:pic>
      <p:pic>
        <p:nvPicPr>
          <p:cNvPr id="100" name="M0Q7M7RV" descr=""/>
          <p:cNvPicPr/>
          <p:nvPr/>
        </p:nvPicPr>
        <p:blipFill>
          <a:blip r:embed="rId2"/>
          <a:stretch/>
        </p:blipFill>
        <p:spPr>
          <a:xfrm>
            <a:off x="4470480" y="990720"/>
            <a:ext cx="1380960" cy="1066680"/>
          </a:xfrm>
          <a:prstGeom prst="rect">
            <a:avLst/>
          </a:prstGeom>
          <a:ln w="0">
            <a:noFill/>
          </a:ln>
        </p:spPr>
      </p:pic>
      <p:pic>
        <p:nvPicPr>
          <p:cNvPr id="101" name="M0Q7M7LU" descr=""/>
          <p:cNvPicPr/>
          <p:nvPr/>
        </p:nvPicPr>
        <p:blipFill>
          <a:blip r:embed="rId3"/>
          <a:stretch/>
        </p:blipFill>
        <p:spPr>
          <a:xfrm>
            <a:off x="6502320" y="380880"/>
            <a:ext cx="568440" cy="1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9T12:26:24Z</dcterms:created>
  <dc:creator>Сергей</dc:creator>
  <dc:description/>
  <dc:language>en-US</dc:language>
  <cp:lastModifiedBy>Сергей</cp:lastModifiedBy>
  <cp:lastPrinted>1997-12-03T17:51:02Z</cp:lastPrinted>
  <dcterms:modified xsi:type="dcterms:W3CDTF">1997-12-03T17:54:02Z</dcterms:modified>
  <cp:revision>6</cp:revision>
  <dc:subject/>
  <dc:title>Московский государственный колледж информационных технологий</dc:title>
</cp:coreProperties>
</file>