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315200" cy="9907588"/>
  <p:notesSz cx="6858000" cy="9317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5C91-609C-43F9-9974-19EAD36D6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93FB-E5D2-4F1D-A285-264FEE34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BBEC-6C7B-4273-AC34-BA32BC751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8940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64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916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8940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9964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E645-4B0D-4248-8EC9-33D37659D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6723-E78E-4640-916D-71DA5B4B3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50BC-2F58-496F-875C-E56F2987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73CF-D729-4D4A-8E70-155CBD3B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F4D6-B04F-46BA-93FF-D547FA4A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A509-945F-408B-9FD1-DF82217A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91640" y="659880"/>
            <a:ext cx="621828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B6AD-B86B-48B9-A109-83908907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1737-A8B0-4BBF-AB46-32F58CE5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85F3-8C63-4F8F-B7B8-AA262E8E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ADC6-4D92-4A66-816A-11B6A1E2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B662-6BF3-48B3-9CC8-664D630F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2D6E-86AF-4ADB-A366-4954C093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8960-AA1C-42D2-BF0D-1B8BAE52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940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964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16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940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9964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AFF0-50FF-41D4-A1EE-269A0A808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BAE5-82DF-48A9-B133-453DD9D6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2FE5-FFB1-4CA4-B808-675F9D88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71B4-AE10-4D5D-BE45-06611823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91640" y="659880"/>
            <a:ext cx="621828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EAEA-292C-4808-9DA5-F5135618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07A6-EEF4-4165-89E8-7FD97A05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3225-46EC-47E6-B782-372DA0AD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211B-7038-45AE-996D-E8DF2374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097400" cy="9905760"/>
            <a:chOff x="0" y="0"/>
            <a:chExt cx="7097400" cy="9905760"/>
          </a:xfrm>
        </p:grpSpPr>
        <p:sp>
          <p:nvSpPr>
            <p:cNvPr id="1" name=""/>
            <p:cNvSpPr/>
            <p:nvPr/>
          </p:nvSpPr>
          <p:spPr>
            <a:xfrm>
              <a:off x="426600" y="343440"/>
              <a:ext cx="6670800" cy="92318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50680" cy="990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12520" y="2311200"/>
              <a:ext cx="61974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92000" y="8805960"/>
            <a:ext cx="15242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743200" y="8805960"/>
            <a:ext cx="23162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5486040" y="8805960"/>
            <a:ext cx="15238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7C87-7F67-406D-8ECD-008D680F8B2F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7097400" cy="9905760"/>
            <a:chOff x="0" y="0"/>
            <a:chExt cx="7097400" cy="9905760"/>
          </a:xfrm>
        </p:grpSpPr>
        <p:sp>
          <p:nvSpPr>
            <p:cNvPr id="46" name=""/>
            <p:cNvSpPr/>
            <p:nvPr/>
          </p:nvSpPr>
          <p:spPr>
            <a:xfrm>
              <a:off x="426600" y="343440"/>
              <a:ext cx="6670800" cy="9231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850680" cy="990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9680" y="2781360"/>
            <a:ext cx="621828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769680" y="8811720"/>
            <a:ext cx="1523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720880" y="8811720"/>
            <a:ext cx="23162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5464080" y="8811720"/>
            <a:ext cx="15242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5213-F77D-4C32-8992-A8EBCF14BBEB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228600"/>
            <a:ext cx="65023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33"/>
                </a:solidFill>
                <a:latin typeface="Times New Roman"/>
              </a:rPr>
              <a:t>Московский государственный колледж информационных технологий</a:t>
            </a:r>
            <a:endParaRPr b="0" lang="en-US" sz="1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7098840"/>
            <a:ext cx="304776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Работу выполни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Студент</a:t>
            </a: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гр. П-406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Коновалов С.Г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57280" y="2558880"/>
            <a:ext cx="3048120" cy="27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31840" y="2724120"/>
            <a:ext cx="304812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925720" y="4057560"/>
            <a:ext cx="2349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УРСОВАЯ РАБОТ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657600" y="4800600"/>
            <a:ext cx="79524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на тему:</a:t>
            </a:r>
            <a:endParaRPr b="0" lang="en-US" sz="1600" spc="1" strike="noStrike">
              <a:ln w="9360">
                <a:solidFill>
                  <a:srgbClr val="ff66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44760" y="5460840"/>
            <a:ext cx="49575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ОПТИМИЗАЦИЯ ПРОИЗВОДСТВЕННОЙ ПРОГРАММЫ </a:t>
            </a:r>
            <a:endParaRPr b="0" lang="en-US" sz="16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357280" y="5791320"/>
            <a:ext cx="322920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ЗАДАННОЙ КОМПЛЕКТНОСТИ</a:t>
            </a:r>
            <a:endParaRPr b="0" lang="en-US" sz="16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19600" y="7016760"/>
            <a:ext cx="30477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Работу проверили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преподаватели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Р.Н. Капустина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С.Б. Токарев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38320" y="2438280"/>
            <a:ext cx="54450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00"/>
                </a:solidFill>
                <a:latin typeface="Times New Roman"/>
              </a:rPr>
              <a:t>Языки программирования и технологии разработки программного обеспечения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8600" y="8832960"/>
            <a:ext cx="10573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Times New Roman"/>
              </a:rPr>
              <a:t>1997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9" name="M0Q7M7N8" descr=""/>
          <p:cNvPicPr/>
          <p:nvPr/>
        </p:nvPicPr>
        <p:blipFill>
          <a:blip r:embed="rId1"/>
          <a:stretch/>
        </p:blipFill>
        <p:spPr>
          <a:xfrm>
            <a:off x="1951200" y="990720"/>
            <a:ext cx="1409400" cy="1066680"/>
          </a:xfrm>
          <a:prstGeom prst="rect">
            <a:avLst/>
          </a:prstGeom>
          <a:ln w="0">
            <a:noFill/>
          </a:ln>
        </p:spPr>
      </p:pic>
      <p:pic>
        <p:nvPicPr>
          <p:cNvPr id="100" name="M0Q7M7RV" descr=""/>
          <p:cNvPicPr/>
          <p:nvPr/>
        </p:nvPicPr>
        <p:blipFill>
          <a:blip r:embed="rId2"/>
          <a:stretch/>
        </p:blipFill>
        <p:spPr>
          <a:xfrm>
            <a:off x="4470480" y="990720"/>
            <a:ext cx="1380960" cy="1066680"/>
          </a:xfrm>
          <a:prstGeom prst="rect">
            <a:avLst/>
          </a:prstGeom>
          <a:ln w="0">
            <a:noFill/>
          </a:ln>
        </p:spPr>
      </p:pic>
      <p:pic>
        <p:nvPicPr>
          <p:cNvPr id="101" name="M0Q7M7LU" descr=""/>
          <p:cNvPicPr/>
          <p:nvPr/>
        </p:nvPicPr>
        <p:blipFill>
          <a:blip r:embed="rId3"/>
          <a:stretch/>
        </p:blipFill>
        <p:spPr>
          <a:xfrm>
            <a:off x="6502320" y="380880"/>
            <a:ext cx="568440" cy="1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9T12:26:24Z</dcterms:created>
  <dc:creator>Сергей</dc:creator>
  <dc:description/>
  <dc:language>en-US</dc:language>
  <cp:lastModifiedBy>Сергей</cp:lastModifiedBy>
  <cp:lastPrinted>1997-12-03T17:51:02Z</cp:lastPrinted>
  <dcterms:modified xsi:type="dcterms:W3CDTF">1997-12-03T17:54:02Z</dcterms:modified>
  <cp:revision>6</cp:revision>
  <dc:subject/>
  <dc:title>Московский государственный колледж информационных технологий</dc:title>
</cp:coreProperties>
</file>