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315200" cy="9907588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72B1-B2D9-4822-9990-40BF049B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64E-FC6C-4AEF-A9EF-F4F74390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5A44-33C5-446B-9085-B94259C5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638-1AB7-4BDD-A3EE-544D632C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2A2C-5BB9-4DC1-9564-3AA2900D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88C3-37B4-4DED-B35D-A3B96A4A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7223-9009-4BE5-A7BD-9BCBC0C1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BA52-31EE-4669-8800-76D98819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07AD-A063-41E3-8188-7EF383E7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3741-5AAB-458A-8FBA-E6C2EFA0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5D24-B86F-4E1B-A81D-1B13591D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DE9-082D-4056-83E4-C82B765E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A689-DEAB-4F20-8AF6-08AAB141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F3D2-E111-46DD-9BDF-96E5C941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3E8B-A5F1-4508-93D1-D56F23F9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F024-F60C-407E-9BED-D3AC2998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C849-380F-46D8-B91A-4857FC2A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712-B16C-4BEF-B1E0-318622D0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EBE8-0F75-4275-B82E-E13EABB2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9C5-7CED-4D6A-B6AF-4A195A00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819-D434-4828-A3C4-31DBDF99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D14-A3EA-4021-A4CC-00CC31C5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605E-6EBC-4381-B1D6-C09FCBE1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45DA-1F7D-408C-8261-547EDF01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1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12520" y="2311200"/>
              <a:ext cx="61974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92000" y="8805960"/>
            <a:ext cx="1524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43200" y="8805960"/>
            <a:ext cx="2316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486040" y="8805960"/>
            <a:ext cx="1523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39F0-3784-4FFC-8621-29DD2224BFD4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46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9680" y="2781360"/>
            <a:ext cx="62182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9680" y="8811720"/>
            <a:ext cx="1523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720880" y="8811720"/>
            <a:ext cx="2316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5464080" y="8811720"/>
            <a:ext cx="1524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72C7-C368-41C7-9A25-D6A96473CBD7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228600"/>
            <a:ext cx="6502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33"/>
                </a:solidFill>
                <a:latin typeface="Times New Roman"/>
              </a:rPr>
              <a:t>Московский государственный колледж информационных технологий</a:t>
            </a:r>
            <a:endParaRPr b="0" lang="en-US" sz="1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7098840"/>
            <a:ext cx="30477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выполни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Студент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гр. П-406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Коновалов С.Г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57280" y="2558880"/>
            <a:ext cx="304812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31840" y="2724120"/>
            <a:ext cx="30481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925720" y="4057560"/>
            <a:ext cx="2349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УРСОВАЯ РАБОТ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57600" y="4800600"/>
            <a:ext cx="7952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а тему:</a:t>
            </a:r>
            <a:endParaRPr b="0" lang="en-US" sz="16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44760" y="5460840"/>
            <a:ext cx="49575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ОПТИМИЗАЦИЯ ПРОИЗВОДСТВЕННОЙ ПРОГРАММЫ 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57280" y="5791320"/>
            <a:ext cx="32292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АДАННОЙ КОМПЛЕКТНОСТИ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9600" y="7016760"/>
            <a:ext cx="30477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провери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преподавате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Р.Н. Капусти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С.Б. Токаре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38320" y="2438280"/>
            <a:ext cx="54450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Times New Roman"/>
              </a:rPr>
              <a:t>Языки программирования и технологии разработки программного обеспечения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8600" y="8832960"/>
            <a:ext cx="1057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9" name="M0Q7M7N8" descr=""/>
          <p:cNvPicPr/>
          <p:nvPr/>
        </p:nvPicPr>
        <p:blipFill>
          <a:blip r:embed="rId1"/>
          <a:stretch/>
        </p:blipFill>
        <p:spPr>
          <a:xfrm>
            <a:off x="1951200" y="990720"/>
            <a:ext cx="140940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M0Q7M7RV" descr=""/>
          <p:cNvPicPr/>
          <p:nvPr/>
        </p:nvPicPr>
        <p:blipFill>
          <a:blip r:embed="rId2"/>
          <a:stretch/>
        </p:blipFill>
        <p:spPr>
          <a:xfrm>
            <a:off x="4470480" y="990720"/>
            <a:ext cx="138096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M0Q7M7LU" descr=""/>
          <p:cNvPicPr/>
          <p:nvPr/>
        </p:nvPicPr>
        <p:blipFill>
          <a:blip r:embed="rId3"/>
          <a:stretch/>
        </p:blipFill>
        <p:spPr>
          <a:xfrm>
            <a:off x="6502320" y="380880"/>
            <a:ext cx="568440" cy="1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9T12:26:24Z</dcterms:created>
  <dc:creator>Сергей</dc:creator>
  <dc:description/>
  <dc:language>en-US</dc:language>
  <cp:lastModifiedBy>Сергей</cp:lastModifiedBy>
  <cp:lastPrinted>1997-12-03T17:51:02Z</cp:lastPrinted>
  <dcterms:modified xsi:type="dcterms:W3CDTF">1997-12-03T17:54:02Z</dcterms:modified>
  <cp:revision>6</cp:revision>
  <dc:subject/>
  <dc:title>Московский государственный колледж информационных технологий</dc:title>
</cp:coreProperties>
</file>