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move the slide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1AC5-DFC6-47B1-994F-0B78F65862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. Поскольку на сегодняшний день продукты фирмы Nowell не пользуются большим успехом на рынке серверных систем, данный проект был создан с целью абстрогироватся от программного обеспечения которое установлено на сервере (контролере домена(ов)) по этому данный програмный продукт может функционировать также под управлним серверов: Windows NT и  Unix. Однако имеющиеся на сегодняшний день большое количество подобных программ ставит перед человеком, проводящим защиту ОС  Windows 95, не тривиальную задачу - ввести большое количество данных при интуитивно не понятном и сложном интерфейсе, не позволяющем быстро и точно защитить требующиеся объекты.  Указываются достоинства и недостатки существующих программных продуктов, позволяющих производить защиту объектов операционной системы WINDOWS95. Указываются пути дальнейшего расширения возможностей програм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66F8-A79F-4D4B-A17F-787E247B6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79EB9-7C1C-4DA3-84FF-4E85B12FF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AF53-7BD9-49FE-BFF2-3D91A2726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78407-56DB-42E8-A630-C5A2C4EE6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37569-4407-46B5-8A27-4EE7F20D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0D1D3-FA14-40D0-A744-078714FC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D1C0F-DB27-4EE0-B663-D37758E4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7B1DE-9314-44F7-A6EA-20BFB3F1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67FD2-2CBD-4DA1-BCDC-C135A2D4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4563A-E21D-4A41-956D-25794672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BA6319-BA7E-4E2C-B7C6-FE25B138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2FCCE-3008-484A-A468-EAB8951A2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7764D-5110-4BC6-A62A-729B1A78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C8F0D-DC61-4B86-8CA3-51A6E2EE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9D849-AC2F-4622-8A91-0D221917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DB0A5-9687-4CBC-B28A-DE50272FE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34252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015800" y="257472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96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34252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4015800" y="4359240"/>
            <a:ext cx="15930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4C48B4-6D2C-450E-AF16-CC1F563F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7C673-9526-4D55-85BD-145042BEE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33033-43E6-4E7E-AA05-41AF10E21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4A7EA-F18D-4343-8191-C9ABD020B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90240" y="1081080"/>
            <a:ext cx="8421480" cy="57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FD53-6D93-4C3E-819B-8D762D713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48E41-09B7-485D-9E1E-8B15594F8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05080" y="435924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CE38-FD4C-41A2-92A9-CB51DCA73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05080" y="2574720"/>
            <a:ext cx="241452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9600" y="4359240"/>
            <a:ext cx="4948200" cy="162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441E2-DED5-4728-8CA7-E438E14DD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4960"/>
            <a:ext cx="8915400" cy="6589800"/>
          </a:xfrm>
          <a:prstGeom prst="rtTriangle">
            <a:avLst/>
          </a:prstGeom>
          <a:gradFill rotWithShape="0">
            <a:gsLst>
              <a:gs pos="0">
                <a:srgbClr val="462f17"/>
              </a:gs>
              <a:gs pos="100000">
                <a:srgbClr val="9966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638680" y="5275440"/>
            <a:ext cx="338940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840" y="10666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568240" y="6119280"/>
            <a:ext cx="39085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C68C-4439-4E44-BC59-93A4D03E60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57189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6782040" y="-3200760"/>
            <a:ext cx="4723560" cy="472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89" y="7005"/>
                </a:moveTo>
                <a:arcTo wR="10800" hR="10800" stAng="-9565662" swAng="4127954"/>
                <a:lnTo>
                  <a:pt x="10800" y="10800"/>
                </a:lnTo>
                <a:close/>
              </a:path>
              <a:path fill="none" w="21600" h="21600">
                <a:moveTo>
                  <a:pt x="689" y="7005"/>
                </a:moveTo>
                <a:arcTo wR="10800" hR="10800" stAng="-9565662" swAng="4127954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flipH="1" flipV="1">
            <a:off x="6715800" y="-17280"/>
            <a:ext cx="2361960" cy="2727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43920" y="-12600"/>
            <a:ext cx="1440" cy="6811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596880"/>
            <a:ext cx="9144000" cy="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0" y="5275440"/>
            <a:ext cx="4603680" cy="68580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>
                  <a:alpha val="50196"/>
                </a:srgbClr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8200"/>
            <a:ext cx="8915400" cy="6589800"/>
          </a:xfrm>
          <a:prstGeom prst="rtTriangle">
            <a:avLst/>
          </a:pr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840" y="152388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2880" y="3228840"/>
            <a:ext cx="0" cy="3627720"/>
          </a:xfrm>
          <a:prstGeom prst="line">
            <a:avLst/>
          </a:prstGeom>
          <a:ln cap="sq"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37480" y="-9360"/>
            <a:ext cx="330120" cy="6875280"/>
            <a:chOff x="6837480" y="-9360"/>
            <a:chExt cx="330120" cy="6875280"/>
          </a:xfrm>
        </p:grpSpPr>
        <p:sp>
          <p:nvSpPr>
            <p:cNvPr id="53" name=""/>
            <p:cNvSpPr/>
            <p:nvPr/>
          </p:nvSpPr>
          <p:spPr>
            <a:xfrm>
              <a:off x="6865920" y="6721560"/>
              <a:ext cx="76320" cy="1443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37480" y="304812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142040" y="335268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37480" y="42670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37480" y="54864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42040" y="45720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040" y="579132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37480" y="-9360"/>
              <a:ext cx="75960" cy="10296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42040" y="-7920"/>
              <a:ext cx="25560" cy="4064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837480" y="47628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37480" y="1695600"/>
              <a:ext cx="759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42040" y="78120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42040" y="2000160"/>
              <a:ext cx="25560" cy="836640"/>
            </a:xfrm>
            <a:prstGeom prst="rect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685440" y="5257440"/>
            <a:ext cx="3908520" cy="34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BD3B-AA5F-4F92-B47E-54606D744C82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685440" y="5638320"/>
            <a:ext cx="39085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7236000" y="6356160"/>
            <a:ext cx="1908000" cy="50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Autofit/>
          </a:bodyPr>
          <a:lstStyle>
            <a:lvl1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114480"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8AE0-18BA-464A-BA98-45B4FF08E5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7200" y="404640"/>
            <a:ext cx="7489800" cy="5542200"/>
          </a:xfrm>
          <a:custGeom>
            <a:avLst/>
            <a:gdLst/>
            <a:ahLst/>
            <a:rect l="l" t="t" r="r" b="b"/>
            <a:pathLst>
              <a:path w="4718" h="3491">
                <a:moveTo>
                  <a:pt x="4718" y="3491"/>
                </a:moveTo>
                <a:lnTo>
                  <a:pt x="471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20" y="1676520"/>
            <a:ext cx="9128160" cy="132084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Click to edit the title text format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66560" y="-360"/>
            <a:ext cx="6857640" cy="685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02" y="12"/>
                </a:moveTo>
                <a:arcTo wR="10800" hR="10800" stAng="-5240302" swAng="10509791"/>
                <a:lnTo>
                  <a:pt x="10800" y="10800"/>
                </a:lnTo>
                <a:close/>
              </a:path>
              <a:path fill="none" w="21600" h="21600">
                <a:moveTo>
                  <a:pt x="11302" y="12"/>
                </a:moveTo>
                <a:arcTo wR="10800" hR="10800" stAng="-5240302" swAng="10509791"/>
              </a:path>
            </a:pathLst>
          </a:custGeom>
          <a:noFill/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" Target="slide18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ВЫПУСКНАЯ КВАЛИФИКАЦИОННАЯ РАБОТА БАКАЛАВРА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28200" y="3171600"/>
            <a:ext cx="49705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ицентов Д. 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МА: ПРОГРАММА ЗАЩИТЫ ОБЬЕКТОВ ОПЕРАЦИОННОЙ СИСТЕМЫ WINDOWS95, РАБОТАЮЩЕЙ В МНОГОПОЛЬЗОВАТЕЛЬСКОМ РЕЖИМЕ ПОД УПРАВЛЕНИЕМ СЕРВЕРА Novell NetWare (Windows NT, Un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AF4A91-5CFB-4A05-8815-2D619FBA8488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имер работы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1960" y="2479680"/>
            <a:ext cx="30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79440" y="251460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сле работы програ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5105520" y="3048120"/>
          <a:ext cx="3176640" cy="31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048120"/>
                    <a:ext cx="3176640" cy="31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0" y="3276720"/>
          <a:ext cx="3908520" cy="23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3908520" cy="23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12800" y="1371600"/>
            <a:ext cx="480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ец през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0" y="-58680"/>
          <a:ext cx="9144000" cy="69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58680"/>
                    <a:ext cx="9144000" cy="69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8656560" y="-228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Times New Roman"/>
                <a:hlinkClick r:id="rId3" action="ppaction://hlinksldjump"/>
              </a:rPr>
              <a:t>__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17640"/>
          <a:ext cx="9144000" cy="68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40"/>
                    <a:ext cx="9144000" cy="68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844680" y="3013200"/>
            <a:ext cx="185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0"/>
          <a:ext cx="5913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13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0" y="0"/>
          <a:ext cx="59612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612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311160" y="3013200"/>
            <a:ext cx="265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фисы различ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0" y="0"/>
          <a:ext cx="463536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3536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4597560" y="1600200"/>
          <a:ext cx="4546440" cy="525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97560" y="1600200"/>
                    <a:ext cx="4546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013720" y="4986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специали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0" y="0"/>
          <a:ext cx="592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92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234480" y="2479680"/>
            <a:ext cx="224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бочее мес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9040" y="1523880"/>
            <a:ext cx="8477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9900"/>
                </a:solidFill>
                <a:latin typeface="Arial Narrow"/>
              </a:rPr>
              <a:t>Системы защиты ОС </a:t>
            </a:r>
            <a:r>
              <a:rPr b="0" lang="en-US" sz="4000" spc="-1" strike="noStrike">
                <a:solidFill>
                  <a:srgbClr val="ff9900"/>
                </a:solidFill>
                <a:latin typeface="Arial Narrow"/>
              </a:rPr>
              <a:t>Windows 95</a:t>
            </a:r>
            <a:endParaRPr b="0" lang="en-US" sz="4000" spc="-1" strike="noStrike">
              <a:solidFill>
                <a:srgbClr val="ff99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28560" y="3171600"/>
            <a:ext cx="5695920" cy="204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ая выпускная работа посвящена вопросам разработки программы защиты объектов операционной системы WINDOWS95 работающей в многопользовательском режиме под управлением сервера Novell NetWare (Windows NT, Uni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75B67F-F0FF-4522-A375-3BBEE4FB13D1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Прогноз использования программ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494820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1" action="ppaction://hlinksldjump"/>
              </a:rPr>
              <a:t>Универс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2" action="ppaction://hlinksldjump"/>
              </a:rPr>
              <a:t>Офисы различных фир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3" action="ppaction://hlinksldjump"/>
              </a:rPr>
              <a:t>Рабочее место специалиста узкого профи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9933"/>
                </a:solidFill>
                <a:uFillTx/>
                <a:latin typeface="Arial"/>
                <a:hlinkClick r:id="rId4" action="ppaction://hlinksldjump"/>
              </a:rPr>
              <a:t>Рабочее место оператора ЭВ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Цели разработки данного проекта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щита ПК от несанкционированного досту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рока службы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безотказного функционирования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удобства работы оператора с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местим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зводитель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дёж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Обзор существующих систем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69960" y="2574720"/>
            <a:ext cx="77882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стем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Tw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аботка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AccessForbiten4.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а PC Deadbolt 3.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дартный модуль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reged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75340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История создания и проблемы вызвавшие необходимость данной работы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69600" y="2574720"/>
            <a:ext cx="8474040" cy="34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блемы функционирования ПК в ЛВС университе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33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, потерявшие актуальнос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ъёмные дис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грузка с сервера по ЛВ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ключение жестких дисков на П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9800" y="563868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ЕШЕНИЕ --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060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</a:rPr>
              <a:t>Место программы в модель взаимодействия открытых систем (</a:t>
            </a:r>
            <a:r>
              <a:rPr b="0" lang="en-US" sz="3600" spc="-1" strike="noStrike">
                <a:solidFill>
                  <a:srgbClr val="ffffff"/>
                </a:solidFill>
                <a:latin typeface="Arial Narrow"/>
              </a:rPr>
              <a:t>OSI/ISO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9933"/>
                </a:solidFill>
                <a:uFillTx/>
                <a:latin typeface="Times New Roman"/>
                <a:hlinkClick r:id="rId1" action="ppaction://hlinksldjump"/>
              </a:rPr>
              <a:t>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438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льзова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30481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кладн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35812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ставитель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41148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ансов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648320"/>
            <a:ext cx="3962520" cy="30456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анспорт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518148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етево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57150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нальны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172200"/>
            <a:ext cx="3962520" cy="3049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Физический уровен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  <a:endCxn id="143" idx="3"/>
          </p:cNvCxnSpPr>
          <p:nvPr/>
        </p:nvCxnSpPr>
        <p:spPr>
          <a:xfrm flipV="1">
            <a:off x="4343400" y="5866920"/>
            <a:ext cx="2160" cy="45792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3" idx="1"/>
            <a:endCxn id="142" idx="1"/>
          </p:cNvCxnSpPr>
          <p:nvPr/>
        </p:nvCxnSpPr>
        <p:spPr>
          <a:xfrm flipH="1" rot="10800000">
            <a:off x="379800" y="5333400"/>
            <a:ext cx="2520" cy="53388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2" idx="3"/>
            <a:endCxn id="141" idx="3"/>
          </p:cNvCxnSpPr>
          <p:nvPr/>
        </p:nvCxnSpPr>
        <p:spPr>
          <a:xfrm flipV="1">
            <a:off x="4343400" y="4800240"/>
            <a:ext cx="2160" cy="53424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1" idx="1"/>
            <a:endCxn id="140" idx="1"/>
          </p:cNvCxnSpPr>
          <p:nvPr/>
        </p:nvCxnSpPr>
        <p:spPr>
          <a:xfrm flipH="1" rot="10800000">
            <a:off x="379800" y="426636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6477120" y="3276720"/>
            <a:ext cx="2057400" cy="1143000"/>
          </a:xfrm>
          <a:prstGeom prst="flowChartInputOutput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ig.p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0" idx="3"/>
            <a:endCxn id="149" idx="4"/>
          </p:cNvCxnSpPr>
          <p:nvPr/>
        </p:nvCxnSpPr>
        <p:spPr>
          <a:xfrm>
            <a:off x="4343400" y="4267080"/>
            <a:ext cx="3162960" cy="153360"/>
          </a:xfrm>
          <a:prstGeom prst="bentConnector4">
            <a:avLst>
              <a:gd name="adj1" fmla="val 33727"/>
              <a:gd name="adj2" fmla="val 24988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9" idx="1"/>
            <a:endCxn id="139" idx="3"/>
          </p:cNvCxnSpPr>
          <p:nvPr/>
        </p:nvCxnSpPr>
        <p:spPr>
          <a:xfrm rot="5400000">
            <a:off x="5695200" y="1924200"/>
            <a:ext cx="457920" cy="3162960"/>
          </a:xfrm>
          <a:prstGeom prst="bentConnector4">
            <a:avLst>
              <a:gd name="adj1" fmla="val -49960"/>
              <a:gd name="adj2" fmla="val 6626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39" idx="1"/>
            <a:endCxn id="138" idx="1"/>
          </p:cNvCxnSpPr>
          <p:nvPr/>
        </p:nvCxnSpPr>
        <p:spPr>
          <a:xfrm flipH="1" rot="10800000">
            <a:off x="379800" y="3199680"/>
            <a:ext cx="2520" cy="5342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8" idx="3"/>
            <a:endCxn id="137" idx="3"/>
          </p:cNvCxnSpPr>
          <p:nvPr/>
        </p:nvCxnSpPr>
        <p:spPr>
          <a:xfrm flipV="1">
            <a:off x="4343400" y="2590200"/>
            <a:ext cx="2160" cy="610200"/>
          </a:xfrm>
          <a:prstGeom prst="bentConnector3">
            <a:avLst>
              <a:gd name="adj1" fmla="val 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0240" y="1081080"/>
            <a:ext cx="8421480" cy="124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Narrow"/>
              </a:rPr>
              <a:t>Установление сеансового соединения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100000">
              <a:srgbClr val="462f1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52480" y="228600"/>
            <a:ext cx="60199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1447920"/>
            <a:ext cx="4495680" cy="1904760"/>
          </a:xfrm>
          <a:prstGeom prst="flowChartDecision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ме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04400" y="144792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ступ разреш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2680" y="13716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оступе отказан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286000"/>
            <a:ext cx="19051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кра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анс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истр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55" idx="2"/>
            <a:endCxn id="156" idx="0"/>
          </p:cNvCxnSpPr>
          <p:nvPr/>
        </p:nvCxnSpPr>
        <p:spPr>
          <a:xfrm>
            <a:off x="4762080" y="609120"/>
            <a:ext cx="1080" cy="839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6" idx="1"/>
            <a:endCxn id="159" idx="0"/>
          </p:cNvCxnSpPr>
          <p:nvPr/>
        </p:nvCxnSpPr>
        <p:spPr>
          <a:xfrm rot="10800000">
            <a:off x="951840" y="2285280"/>
            <a:ext cx="1562760" cy="115200"/>
          </a:xfrm>
          <a:prstGeom prst="bentConnector4">
            <a:avLst>
              <a:gd name="adj1" fmla="val 19493"/>
              <a:gd name="adj2" fmla="val 3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6324480" y="3048120"/>
            <a:ext cx="2819520" cy="10666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крытие доступ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каталогу с файло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56" idx="3"/>
            <a:endCxn id="162" idx="0"/>
          </p:cNvCxnSpPr>
          <p:nvPr/>
        </p:nvCxnSpPr>
        <p:spPr>
          <a:xfrm>
            <a:off x="7009920" y="2400120"/>
            <a:ext cx="724680" cy="64836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5943600" y="5029200"/>
            <a:ext cx="32004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грузка шифрованног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айл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62" idx="2"/>
            <a:endCxn id="164" idx="0"/>
          </p:cNvCxnSpPr>
          <p:nvPr/>
        </p:nvCxnSpPr>
        <p:spPr>
          <a:xfrm rot="5400000">
            <a:off x="7180920" y="4476600"/>
            <a:ext cx="915120" cy="191160"/>
          </a:xfrm>
          <a:prstGeom prst="bentConnector3">
            <a:avLst>
              <a:gd name="adj1" fmla="val 4998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048120" y="5029200"/>
            <a:ext cx="259056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шифраци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fig.pol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4" idx="1"/>
            <a:endCxn id="166" idx="3"/>
          </p:cNvCxnSpPr>
          <p:nvPr/>
        </p:nvCxnSpPr>
        <p:spPr>
          <a:xfrm rot="10800000">
            <a:off x="5637960" y="5523840"/>
            <a:ext cx="305640" cy="108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0" y="5029200"/>
            <a:ext cx="2743200" cy="99072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пуск программы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менение реест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1"/>
            <a:endCxn id="168" idx="3"/>
          </p:cNvCxnSpPr>
          <p:nvPr/>
        </p:nvCxnSpPr>
        <p:spPr>
          <a:xfrm flipH="1">
            <a:off x="2742480" y="5524200"/>
            <a:ext cx="3056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2209680" y="6477120"/>
            <a:ext cx="6934320" cy="380880"/>
          </a:xfrm>
          <a:prstGeom prst="flowChartProcess">
            <a:avLst/>
          </a:prstGeom>
          <a:solidFill>
            <a:srgbClr val="d600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чищенная Рабочая Станция О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1" name=""/>
          <p:cNvCxnSpPr>
            <a:stCxn id="168" idx="2"/>
            <a:endCxn id="170" idx="1"/>
          </p:cNvCxnSpPr>
          <p:nvPr/>
        </p:nvCxnSpPr>
        <p:spPr>
          <a:xfrm flipH="1" rot="16200000">
            <a:off x="1466640" y="5924160"/>
            <a:ext cx="648360" cy="838800"/>
          </a:xfrm>
          <a:prstGeom prst="bentConnector2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9" idx="2"/>
            <a:endCxn id="156" idx="2"/>
          </p:cNvCxnSpPr>
          <p:nvPr/>
        </p:nvCxnSpPr>
        <p:spPr>
          <a:xfrm flipH="1" rot="16200000">
            <a:off x="2855520" y="1448280"/>
            <a:ext cx="2520" cy="3810600"/>
          </a:xfrm>
          <a:prstGeom prst="bentConnector3">
            <a:avLst>
              <a:gd name="adj1" fmla="val 545833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3T19:14:48Z</dcterms:created>
  <dc:creator>Demon13</dc:creator>
  <dc:description/>
  <cp:keywords>ЗАЩИТА WINDOWS95 МНОГОПОЛЬЗОВАТЕЛЬСКОМ РЕЖИМЕ СЕРВЕР Novell NetWare Windows NT  Unix</cp:keywords>
  <dc:language>en-US</dc:language>
  <cp:lastModifiedBy>Demon13</cp:lastModifiedBy>
  <dcterms:modified xsi:type="dcterms:W3CDTF">2000-06-28T18:45:47Z</dcterms:modified>
  <cp:revision>33</cp:revision>
  <dc:subject>ПРОГРАММА ЗАЩИТЫ ОБЬЕКТОВ ОПЕРАЦИОННОЙ СИСТЕМЫ WINDOWS95, РАБОТАЮЩЕЙ В МНОГОПОЛЬЗОВАТЕЛЬСКОМ РЕЖИМЕ ПОД УПРАВЛЕНИЕМ СЕРВЕРА Novell NetWare (Windows NT, Unix)</dc:subject>
  <dc:title>ВЫПУСКНАЯ КВАЛИФИКАЦИОННАЯ РАБОТА БАКАЛАВ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Группа">
    <vt:lpwstr>3ИТ4-26</vt:lpwstr>
  </property>
  <property fmtid="{D5CDD505-2E9C-101B-9397-08002B2CF9AE}" pid="3" name="Издатель">
    <vt:lpwstr>Litsentov D. B.</vt:lpwstr>
  </property>
  <property fmtid="{D5CDD505-2E9C-101B-9397-08002B2CF9AE}" pid="4" name="Почтовое отделение">
    <vt:lpwstr>Demon13@altavista.net</vt:lpwstr>
  </property>
  <property fmtid="{D5CDD505-2E9C-101B-9397-08002B2CF9AE}" pid="5" name="Проверено">
    <vt:lpwstr>июнь 2000</vt:lpwstr>
  </property>
  <property fmtid="{D5CDD505-2E9C-101B-9397-08002B2CF9AE}" pid="6" name="Проект">
    <vt:lpwstr>ПРОГРАММА ЗАЩИТЫ ОБЬЕКТОВ ОПЕРАЦИОННОЙ СИСТЕМЫ WINDOWS95, РАБОТАЮЩЕЙ В МНОГОПОЛЬЗОВАТЕЛЬСКОМ РЕЖИМЕ ПОД УПРАВЛЕНИЕМ СЕРВЕРА Novell NetWare (Windows NT, Unix)</vt:lpwstr>
  </property>
  <property fmtid="{D5CDD505-2E9C-101B-9397-08002B2CF9AE}" pid="7" name="Расположение">
    <vt:lpwstr>Комп Demon13</vt:lpwstr>
  </property>
  <property fmtid="{D5CDD505-2E9C-101B-9397-08002B2CF9AE}" pid="8" name="Редактор">
    <vt:lpwstr>Еремеева Т. Ю.</vt:lpwstr>
  </property>
  <property fmtid="{D5CDD505-2E9C-101B-9397-08002B2CF9AE}" pid="9" name="Состояние">
    <vt:lpwstr>Закрыт</vt:lpwstr>
  </property>
  <property fmtid="{D5CDD505-2E9C-101B-9397-08002B2CF9AE}" pid="10" name="Телефон">
    <vt:lpwstr>+7 (095) 979 1504</vt:lpwstr>
  </property>
  <property fmtid="{D5CDD505-2E9C-101B-9397-08002B2CF9AE}" pid="11" name="Цель">
    <vt:lpwstr>Демонстарция на защите диплома бакалавра</vt:lpwstr>
  </property>
  <property fmtid="{D5CDD505-2E9C-101B-9397-08002B2CF9AE}" pid="12" name="Язык">
    <vt:lpwstr>русский</vt:lpwstr>
  </property>
</Properties>
</file>