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AB09-B364-4B21-8A67-C58AAD2B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7BA-3E6B-4B00-A8D7-201DACEB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81A-AC9F-4618-B9C9-5FCC55D72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5ED-A7C0-4113-8222-407BA073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6F6E-822A-4592-9C2F-7270462B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19F-ACD1-46E9-870A-46BBE17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45DC-E753-4606-93D2-1D4769AC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7EA-16CA-4AF3-82D4-B9695F93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00A-8926-4689-B26A-48149BCB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33A-431B-46F6-AAB1-5CCDD7B6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47C-B633-4077-8200-F0A1D84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2D7-8FDB-4028-AF06-FB8DBB99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6ED0D276-78DB-4BC0-978B-A355B723AA38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8360" y="1596960"/>
            <a:ext cx="31265640" cy="21034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92120" y="503280"/>
            <a:ext cx="307213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мский Государственный Технический Университ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72680" y="20267640"/>
            <a:ext cx="171432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азработал: студент АСОИУ Геттих М.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Руководитель: Гл.конструктор НПО «Автоматика» Чегодаев В.Н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938240"/>
            <a:ext cx="320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Дипломный проект</a:t>
            </a:r>
            <a:r>
              <a:rPr b="0" lang="en-US" sz="45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20954880"/>
            <a:ext cx="37051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Сургут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8280" y="3505320"/>
            <a:ext cx="9535320" cy="91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недрение системы позволит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02160" y="18897480"/>
            <a:ext cx="886140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оимость разработ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68 000 руб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рок окупаемости 8 мес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38"/>
              </a:spcBef>
              <a:buClr>
                <a:srgbClr val="000000"/>
              </a:buClr>
              <a:buFont typeface="Times New Roman"/>
              <a:buChar char="•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тформа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dows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0744200" y="8534520"/>
          <a:ext cx="13235040" cy="660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744200" y="8534520"/>
                    <a:ext cx="13235040" cy="66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371600" y="4572000"/>
            <a:ext cx="15849720" cy="37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дготовить отчеты в ГНИ за 1 ден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Резко снизить вероятность штрафо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223"/>
              </a:lnSpc>
              <a:buClr>
                <a:srgbClr val="0000ff"/>
              </a:buClr>
              <a:buFont typeface="Monotype Sorts" charset="2"/>
              <a:buChar char=""/>
              <a:tabLst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Получить полную информацию о заработной плате в любом разрез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2400" y="10134720"/>
            <a:ext cx="6856200" cy="80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Основные возможности: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6640" y="10972800"/>
            <a:ext cx="1093536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t">
            <a:spAutoFit/>
          </a:bodyPr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Сбор информации о дохода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Перерасчет подоходного налог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Формирование отчетов в ГНИ Р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Выдача отчетов для ОТиЗ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Monotype Sorts" charset="2"/>
              <a:buChar char=""/>
              <a:tabLst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Работа с плановым отдело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(в перспективе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40360" y="6035760"/>
            <a:ext cx="4431960" cy="2009520"/>
          </a:xfrm>
          <a:prstGeom prst="wedgeRoundRectCallout">
            <a:avLst>
              <a:gd name="adj1" fmla="val -71347"/>
              <a:gd name="adj2" fmla="val 253157"/>
              <a:gd name="adj3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00ff00"/>
              </a:gs>
            </a:gsLst>
            <a:lin ang="5400000"/>
          </a:gra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15640" rIns="215640" tIns="108000" bIns="108000" anchor="ctr">
            <a:noAutofit/>
          </a:bodyPr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День внедрени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157480"/>
                <a:tab algn="l" pos="4314960"/>
                <a:tab algn="l" pos="6472080"/>
                <a:tab algn="l" pos="8629560"/>
                <a:tab algn="l" pos="107870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25141320" y="15279480"/>
            <a:ext cx="5262480" cy="25174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259800" y="19242000"/>
            <a:ext cx="1021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ы в бухгалтериях подраздел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84080" y="13792320"/>
            <a:ext cx="286704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9038680" y="17032320"/>
            <a:ext cx="2473200" cy="22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V="1">
            <a:off x="22552200" y="15279840"/>
            <a:ext cx="2589120" cy="236664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140960" y="15279480"/>
            <a:ext cx="1144440" cy="2438280"/>
          </a:xfrm>
          <a:prstGeom prst="line">
            <a:avLst/>
          </a:prstGeom>
          <a:ln w="15228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5150680" y="17032320"/>
            <a:ext cx="2473560" cy="2233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21409200" y="17108640"/>
            <a:ext cx="2373120" cy="2143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8111320" y="9637560"/>
            <a:ext cx="3305160" cy="345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24231600" y="499428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25373160" y="11163240"/>
            <a:ext cx="3430440" cy="1906560"/>
          </a:xfrm>
          <a:prstGeom prst="line">
            <a:avLst/>
          </a:prstGeom>
          <a:ln w="15228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5295400" y="8345160"/>
            <a:ext cx="231480" cy="4267080"/>
          </a:xfrm>
          <a:prstGeom prst="line">
            <a:avLst/>
          </a:prstGeom>
          <a:ln w="152280">
            <a:solidFill>
              <a:srgbClr val="008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9"/>
          <a:stretch/>
        </p:blipFill>
        <p:spPr>
          <a:xfrm>
            <a:off x="28195560" y="5070600"/>
            <a:ext cx="3295800" cy="344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V="1">
            <a:off x="25295400" y="8297640"/>
            <a:ext cx="3016080" cy="4467240"/>
          </a:xfrm>
          <a:prstGeom prst="line">
            <a:avLst/>
          </a:prstGeom>
          <a:ln cap="rnd" w="152280">
            <a:solidFill>
              <a:srgbClr val="3333cc"/>
            </a:solidFill>
            <a:custDash>
              <a:ds d="100000" sp="1000"/>
            </a:custDash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49400" y="8686800"/>
            <a:ext cx="395460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дел налоговой поли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582840" y="4524480"/>
            <a:ext cx="442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лановый отд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2120" y="3809880"/>
            <a:ext cx="442116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ьютер отдела ОТи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23542560" y="11847600"/>
            <a:ext cx="33051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0-10-22T04:04:21Z</dcterms:modified>
  <cp:revision>36</cp:revision>
  <dc:subject/>
  <dc:title>Заголовок слайда отсутствует</dc:title>
</cp:coreProperties>
</file>