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004000" cy="22632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D5D3-C701-49F9-823C-DC22F554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132F-8D8D-4A79-8367-35D57E2B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5DEF-3E89-4697-BD7F-C2468C73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59776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0795040" y="6539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0012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59776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0795040" y="13631040"/>
            <a:ext cx="875916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7595-8B0C-478F-B6A3-155437F8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FE91-A0E6-47B1-BE7C-4AF35D7E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F5C5-0664-4BB8-97AA-7D3290A0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68DA-5755-4B0B-8AFA-CF6ED99F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96A8-1F33-4001-ADB6-AB4B876D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00120" y="2009880"/>
            <a:ext cx="27203400" cy="1749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8EC-EB13-48C9-A3F3-74A0544D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B491-A358-45C6-BFD2-C2CC6E66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339320" y="13631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CA9-5200-445A-9D16-104E4BBA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001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339320" y="6539040"/>
            <a:ext cx="132750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00120" y="13631040"/>
            <a:ext cx="27203400" cy="64764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C564-0838-45CF-BC08-2FD73F96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00120" y="2009880"/>
            <a:ext cx="27203400" cy="377352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ctr">
            <a:noAutofit/>
          </a:bodyPr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10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0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00120" y="6539040"/>
            <a:ext cx="27203400" cy="1357776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rmAutofit/>
          </a:bodyPr>
          <a:p>
            <a:pPr marL="846000" indent="-8460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1" marL="1835280" indent="-70344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2" marL="282420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3" marL="3956040" indent="-565200">
              <a:spcBef>
                <a:spcPts val="2001"/>
              </a:spcBef>
              <a:buClr>
                <a:srgbClr val="000000"/>
              </a:buClr>
              <a:buFont typeface="Times New Roman"/>
              <a:buChar char="–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4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5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lvl="6" marL="5084640" indent="-561960">
              <a:spcBef>
                <a:spcPts val="2001"/>
              </a:spcBef>
              <a:buClr>
                <a:srgbClr val="000000"/>
              </a:buClr>
              <a:buFont typeface="Times New Roman"/>
              <a:buChar char="»"/>
              <a:tabLst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00480" y="20621160"/>
            <a:ext cx="666720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934640" y="20621160"/>
            <a:ext cx="1013472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935960" y="20621160"/>
            <a:ext cx="6667560" cy="1506600"/>
          </a:xfrm>
          <a:prstGeom prst="rect">
            <a:avLst/>
          </a:prstGeom>
          <a:noFill/>
          <a:ln w="0">
            <a:noFill/>
          </a:ln>
        </p:spPr>
        <p:txBody>
          <a:bodyPr lIns="226080" rIns="226080" tIns="113040" bIns="113040" anchor="t">
            <a:noAutofit/>
          </a:bodyPr>
          <a:lstStyle>
            <a:lvl1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  <a:defRPr b="0" lang="en-US" sz="3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2259000"/>
                <a:tab algn="l" pos="4518000"/>
                <a:tab algn="l" pos="6777000"/>
                <a:tab algn="l" pos="9036000"/>
              </a:tabLst>
            </a:pPr>
            <a:fld id="{0D30A7FD-C65C-495D-B4ED-D1F0463F9FB4}" type="slidenum"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641680" y="5410080"/>
            <a:ext cx="35892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240" rIns="66240" tIns="33120" bIns="33120" anchor="t">
            <a:spAutoFit/>
          </a:bodyPr>
          <a:p>
            <a:pPr>
              <a:tabLst>
                <a:tab algn="l" pos="0"/>
                <a:tab algn="l" pos="663480"/>
                <a:tab algn="l" pos="1327320"/>
                <a:tab algn="l" pos="1990800"/>
                <a:tab algn="l" pos="2654280"/>
                <a:tab algn="l" pos="3317760"/>
                <a:tab algn="l" pos="3981600"/>
                <a:tab algn="l" pos="4645080"/>
                <a:tab algn="l" pos="5308560"/>
                <a:tab algn="l" pos="5972040"/>
                <a:tab algn="l" pos="6635880"/>
                <a:tab algn="l" pos="7299360"/>
                <a:tab algn="l" pos="7962840"/>
                <a:tab algn="l" pos="8626320"/>
                <a:tab algn="l" pos="9290160"/>
                <a:tab algn="l" pos="9953640"/>
                <a:tab algn="l" pos="106171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503280"/>
            <a:ext cx="32004000" cy="21366000"/>
            <a:chOff x="0" y="503280"/>
            <a:chExt cx="32004000" cy="21366000"/>
          </a:xfrm>
        </p:grpSpPr>
        <p:sp>
          <p:nvSpPr>
            <p:cNvPr id="43" name=""/>
            <p:cNvSpPr/>
            <p:nvPr/>
          </p:nvSpPr>
          <p:spPr>
            <a:xfrm>
              <a:off x="738360" y="1596960"/>
              <a:ext cx="30351240" cy="20272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cap="sq"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2120" y="503280"/>
              <a:ext cx="30721320" cy="70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Омский Государственный Технический Университе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399560" y="20269080"/>
              <a:ext cx="17143200" cy="14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азработал: студент АСОИУ Геттих М.В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</a:rPr>
                <a:t>Руководитель: Гл.конструктор НПО «Автоматика» Чегодаев В.Н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938240"/>
              <a:ext cx="3200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000" spc="-1" strike="noStrike">
                  <a:solidFill>
                    <a:srgbClr val="3333cc"/>
                  </a:solidFill>
                  <a:latin typeface="Times New Roman"/>
                </a:rPr>
                <a:t>Дипломный проект</a:t>
              </a:r>
              <a:r>
                <a:rPr b="0" lang="en-US" sz="45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br>
                <a:rPr sz="3600"/>
              </a:br>
              <a:r>
                <a:rPr b="0" lang="en-US" sz="3600" spc="-1" strike="noStrike" u="sng">
                  <a:solidFill>
                    <a:srgbClr val="3333cc"/>
                  </a:solidFill>
                  <a:uFillTx/>
                  <a:latin typeface="Times New Roman"/>
                </a:rPr>
                <a:t> Разработка системы по сбору информации о доходах физических лиц для формирования отчетности в ГНИ РФ по объединению СургутГазПром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76360" y="20954880"/>
              <a:ext cx="37051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Сургут 1999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48280" y="3505320"/>
              <a:ext cx="9535320" cy="916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Внедрение системы позволит: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621480" y="17525880"/>
              <a:ext cx="8861400" cy="26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тоимость разработки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68 000 руб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Срок окупаемости 8 мес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38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4400" spc="-1" strike="noStrike">
                  <a:solidFill>
                    <a:srgbClr val="000000"/>
                  </a:solidFill>
                  <a:latin typeface="Times New Roman"/>
                </a:rPr>
                <a:t>Платформа: </a:t>
              </a: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Windows 98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10287000" y="8610480"/>
            <a:ext cx="13235040" cy="66009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0287000" y="8610480"/>
                      <a:ext cx="13235040" cy="660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1371600" y="4572000"/>
              <a:ext cx="15849720" cy="3762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3240" rIns="93240" tIns="46440" bIns="46440" anchor="t">
              <a:spAutoFit/>
            </a:bodyPr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дготовить отчеты в ГНИ за 1 день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Резко снизить вероятность штрафов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7223"/>
                </a:lnSpc>
                <a:buClr>
                  <a:srgbClr val="0000ff"/>
                </a:buClr>
                <a:buFont typeface="Monotype Sorts" charset="2"/>
                <a:buChar char=""/>
                <a:tabLst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Times New Roman"/>
                </a:rPr>
                <a:t>Получить полную информацию о заработной плате в любом разрезе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92400" y="10134720"/>
              <a:ext cx="6856200" cy="809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440" bIns="46440" anchor="t">
              <a:spAutoFit/>
            </a:bodyPr>
            <a:p>
              <a:pPr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r>
                <a:rPr b="1" lang="en-US" sz="4700" spc="-1" strike="noStrike">
                  <a:solidFill>
                    <a:srgbClr val="000000"/>
                  </a:solidFill>
                  <a:latin typeface="Times New Roman"/>
                </a:rPr>
                <a:t>Основные возможности:</a:t>
              </a:r>
              <a:endParaRPr b="0" lang="en-US" sz="4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6640" y="10972800"/>
              <a:ext cx="10935360" cy="51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t">
              <a:spAutoFit/>
            </a:bodyPr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Сбор информации о доходах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Перерасчет подоходного налог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Формирование отчетов в ГНИ РФ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Выдача отчетов для ОТиЗ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3333cc"/>
                </a:buClr>
                <a:buFont typeface="Monotype Sorts" charset="2"/>
                <a:buChar char=""/>
                <a:tabLst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Работа с плановым отделом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(в перспективе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740360" y="6035760"/>
              <a:ext cx="4431960" cy="2009520"/>
            </a:xfrm>
            <a:prstGeom prst="wedgeRoundRectCallout">
              <a:avLst>
                <a:gd name="adj1" fmla="val -85671"/>
                <a:gd name="adj2" fmla="val 246842"/>
                <a:gd name="adj3" fmla="val 1666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00ff00"/>
                </a:gs>
              </a:gsLst>
              <a:lin ang="5400000"/>
            </a:gra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5640" rIns="215640" tIns="108000" bIns="108000" anchor="ctr">
              <a:noAutofit/>
            </a:bodyPr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День внедрения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2157480"/>
                  <a:tab algn="l" pos="4314960"/>
                  <a:tab algn="l" pos="6472080"/>
                  <a:tab algn="l" pos="8629560"/>
                  <a:tab algn="l" pos="1078704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Times New Roman"/>
                </a:rPr>
                <a:t>системы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0421720" y="4419720"/>
              <a:ext cx="10744200" cy="15479280"/>
              <a:chOff x="20421720" y="4419720"/>
              <a:chExt cx="10744200" cy="15479280"/>
            </a:xfrm>
          </p:grpSpPr>
          <p:sp>
            <p:nvSpPr>
              <p:cNvPr id="57" name=""/>
              <p:cNvSpPr/>
              <p:nvPr/>
            </p:nvSpPr>
            <p:spPr>
              <a:xfrm flipH="1" flipV="1">
                <a:off x="24302520" y="15355800"/>
                <a:ext cx="5262840" cy="25178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0421720" y="19318320"/>
                <a:ext cx="10210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Компьютеры в бухгалтериях подразделений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5146000" y="13868280"/>
                <a:ext cx="2867040" cy="7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Times New Roman"/>
                  </a:rPr>
                  <a:t>Сервер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8200240" y="17108640"/>
                <a:ext cx="2473560" cy="223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 flipV="1">
                <a:off x="21713760" y="15355440"/>
                <a:ext cx="2589120" cy="236700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 flipV="1">
                <a:off x="24302880" y="15355800"/>
                <a:ext cx="1144800" cy="2438640"/>
              </a:xfrm>
              <a:prstGeom prst="line">
                <a:avLst/>
              </a:prstGeom>
              <a:ln w="152280">
                <a:solidFill>
                  <a:srgbClr val="0000ff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312600" y="17108640"/>
                <a:ext cx="2473200" cy="223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0570760" y="17184600"/>
                <a:ext cx="2373480" cy="214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7273240" y="971388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3393520" y="5070600"/>
                <a:ext cx="3295440" cy="34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"/>
              <p:cNvSpPr/>
              <p:nvPr/>
            </p:nvSpPr>
            <p:spPr>
              <a:xfrm flipV="1">
                <a:off x="24534720" y="11239560"/>
                <a:ext cx="3430800" cy="1906560"/>
              </a:xfrm>
              <a:prstGeom prst="line">
                <a:avLst/>
              </a:prstGeom>
              <a:ln w="152280">
                <a:solidFill>
                  <a:srgbClr val="ff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24456960" y="8421480"/>
                <a:ext cx="231840" cy="4267080"/>
              </a:xfrm>
              <a:prstGeom prst="line">
                <a:avLst/>
              </a:prstGeom>
              <a:ln w="152280">
                <a:solidFill>
                  <a:srgbClr val="008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57480" y="5146560"/>
                <a:ext cx="3295440" cy="344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 flipV="1">
                <a:off x="24456960" y="8373600"/>
                <a:ext cx="3016440" cy="4467240"/>
              </a:xfrm>
              <a:prstGeom prst="line">
                <a:avLst/>
              </a:prstGeom>
              <a:ln cap="rnd" w="152280">
                <a:solidFill>
                  <a:srgbClr val="3333cc"/>
                </a:solidFill>
                <a:custDash>
                  <a:ds d="100000" sp="1000"/>
                </a:custDash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7211320" y="8763120"/>
                <a:ext cx="3954600" cy="10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налоговой политики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744760" y="460044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Плановый отдел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2783680" y="4419720"/>
                <a:ext cx="44211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3240" rIns="93240" tIns="46440" bIns="46440" anchor="t">
                <a:sp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Отдел ОТиЗ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2704480" y="11923560"/>
                <a:ext cx="3305160" cy="3456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0T07:44:58Z</dcterms:created>
  <dc:creator>Andrey Lyashenko</dc:creator>
  <dc:description/>
  <dc:language>en-US</dc:language>
  <cp:lastModifiedBy>Геттих М.В.</cp:lastModifiedBy>
  <cp:lastPrinted>1999-10-14T12:59:21Z</cp:lastPrinted>
  <dcterms:modified xsi:type="dcterms:W3CDTF">1999-10-22T04:39:17Z</dcterms:modified>
  <cp:revision>38</cp:revision>
  <dc:subject/>
  <dc:title>Заголовок слайда отсутствует</dc:title>
</cp:coreProperties>
</file>