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697D-388B-4396-9F37-DDFBFD13B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9609-BF93-498D-A0AA-075B3111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5E29-A6FD-472F-85F4-E5B73568A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9A93-B392-48D2-8DCF-DFCF35C6F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5B40-332A-4BD0-9CD5-2F3B176DE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13EB-F515-4892-9680-F4A53736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21EA-F00F-4F5F-B4E6-68590A5C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85D1-6BE0-491C-958D-3AE15DD1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A990-7DFB-4EAC-83BB-7B3507BC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0784F-FAFF-4711-AA6D-6C1BBF4E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EACB0-2784-402C-B6FB-3E565653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ADA5-5CB8-4C08-972C-C4118335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17FA-D603-4181-AFC3-5BEFE51F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B4696-ED5B-47C1-8AB8-4210BDB3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800F-0665-4B0C-814D-C4DA3312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AB22-CE21-4B04-BF3B-D60E20A3B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0816-1627-4289-BBFC-71F703748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2CA6-FCC9-4E50-B417-8E55EF29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7715-97EE-4C99-BB34-95214E33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A494-E68D-4AA3-B653-D6B0ABDF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4104-749D-4665-84E2-0DD03F5C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B606-9D8F-4B48-B8F7-679BDEA4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D422-899F-4ADE-809F-50710EAB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F806-2547-4331-AE8E-55660723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43A0-06E2-4B12-A0E0-2058BDBE849A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A04E-D5AD-43D3-8CD1-D976601738E6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13.png"/><Relationship Id="rId10" Type="http://schemas.openxmlformats.org/officeDocument/2006/relationships/image" Target="../media/image7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7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7.png"/><Relationship Id="rId10" Type="http://schemas.openxmlformats.org/officeDocument/2006/relationships/image" Target="../media/image25.png"/><Relationship Id="rId11" Type="http://schemas.openxmlformats.org/officeDocument/2006/relationships/image" Target="../media/image7.png"/><Relationship Id="rId12" Type="http://schemas.openxmlformats.org/officeDocument/2006/relationships/image" Target="../media/image26.png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2120" y="1600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Дипломный проект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276720"/>
            <a:ext cx="8458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азработка системы по сбору информации о доходах физических лиц для формирования отчетности в ГНИ РФ по объединению СургутГазПром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646128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Сургут  1999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2286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Омский Государственный Технический Университет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5486400"/>
            <a:ext cx="443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азработка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Геттих М.В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уководитель: Чегодаев В.Н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990360"/>
            <a:ext cx="7086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истемные и сервисные функции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431640" y="1981080"/>
            <a:ext cx="545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еиндексация базы данных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8400" y="2514600"/>
            <a:ext cx="709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езервное копирование базы данных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4800" y="3657600"/>
            <a:ext cx="697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Установка паролей и прав доступ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2000" y="4876920"/>
            <a:ext cx="217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Блокнот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0920" y="5486400"/>
            <a:ext cx="295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лькулятор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2000" y="601992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лендарь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6600" y="3124080"/>
            <a:ext cx="831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Установка путей к АРМам подразделений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9480" y="4267080"/>
            <a:ext cx="63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ыбор текущего подразделения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162080" y="1447920"/>
            <a:ext cx="7981920" cy="5092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315120" y="2666880"/>
            <a:ext cx="2828880" cy="18003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4572000" y="1905120"/>
            <a:ext cx="3705120" cy="26287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5"/>
          <a:stretch/>
        </p:blipFill>
        <p:spPr>
          <a:xfrm>
            <a:off x="1523880" y="762120"/>
            <a:ext cx="7620120" cy="5715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6"/>
          <a:stretch/>
        </p:blipFill>
        <p:spPr>
          <a:xfrm>
            <a:off x="5638680" y="3962520"/>
            <a:ext cx="2476800" cy="24001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7"/>
          <a:stretch/>
        </p:blipFill>
        <p:spPr>
          <a:xfrm>
            <a:off x="3505320" y="3695760"/>
            <a:ext cx="4581360" cy="31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334120" y="3276720"/>
            <a:ext cx="3295440" cy="26762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38080" y="990720"/>
            <a:ext cx="7086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Информация о средствах разработки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05740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азработка проведена на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Delphi 4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5146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 использованием СУБД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InterBase v 5.0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4952880" y="4267080"/>
            <a:ext cx="2838600" cy="19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Общая информация о продукте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2057400"/>
            <a:ext cx="7848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Для работы необходимо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2514600"/>
            <a:ext cx="6019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SzPct val="6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dows 95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dows NT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2971800"/>
            <a:ext cx="6553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SzPct val="6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еть под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dows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95 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dows NT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3733920"/>
            <a:ext cx="7848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тоимость разработки 68000 рублей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3962520"/>
            <a:ext cx="8610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 настоящее время разработка находится в промышленной эксплуатации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9907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Заключение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1828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Внедрение разработки позволяет: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236232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Значительно упростить и ускорить процесс подготовки отчетов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3581280"/>
            <a:ext cx="876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овысить качество отчетности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4191120"/>
            <a:ext cx="876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олучить качественно новые, недоступные ранее виды отчетов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5257800"/>
            <a:ext cx="876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олучить общую картину о заработной плате в объединении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0880" y="21337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Спасибо за внимание ..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87480" y="990720"/>
            <a:ext cx="417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АО СургутГазПром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560" y="3352680"/>
            <a:ext cx="90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За двадцать лет добыто более 384571,7 м</a:t>
            </a:r>
            <a:r>
              <a:rPr b="1" i="1" lang="ru-RU" sz="3200" spc="-1" strike="noStrike" baseline="30000">
                <a:solidFill>
                  <a:srgbClr val="ffffff"/>
                </a:solidFill>
                <a:latin typeface="Times New Roman"/>
              </a:rPr>
              <a:t>3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газ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320" y="2085840"/>
            <a:ext cx="32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оздан в 1977г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080" y="2743200"/>
            <a:ext cx="764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остоит из 25 крупных подразделений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5562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Назначение разработки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22096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автоматизация работы отдела налоговой политики, отдела ОТиЗ предприятия «СургутГазПром» и бухгалтерий его территориально распределённых подразделений в области отчетности с заработной платы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Необходимость в собственной разработки обусловлена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пецифичностью организации предприятия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рименяемой СУБД для расчета заработной платы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озможной интеграцией системы с уже существующими на предприятии программными комплексами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6875640" y="3047760"/>
            <a:ext cx="896760" cy="1315800"/>
          </a:xfrm>
          <a:prstGeom prst="line">
            <a:avLst/>
          </a:prstGeom>
          <a:ln cap="rnd" w="76320">
            <a:solidFill>
              <a:srgbClr val="9999ff"/>
            </a:solidFill>
            <a:custDash>
              <a:ds d="100000" sp="1000"/>
            </a:custDash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сновные возможности программы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бор информации о доходах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25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6808320" y="5230440"/>
            <a:ext cx="1629000" cy="762120"/>
          </a:xfrm>
          <a:prstGeom prst="line">
            <a:avLst/>
          </a:prstGeom>
          <a:ln w="7632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07000" y="6431040"/>
            <a:ext cx="316080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ctr"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Times New Roman"/>
              </a:rPr>
              <a:t>Компьютеры в бухгалтериях подразделений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27800" y="4791240"/>
            <a:ext cx="8254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ctr"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ru-RU" sz="1600" spc="-1" strike="noStrike">
                <a:solidFill>
                  <a:srgbClr val="ccecff"/>
                </a:solidFill>
                <a:latin typeface="Times New Roman"/>
              </a:rPr>
              <a:t>Сервер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1520" y="5761080"/>
            <a:ext cx="750960" cy="677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V="1">
            <a:off x="6006960" y="5230440"/>
            <a:ext cx="801720" cy="716040"/>
          </a:xfrm>
          <a:prstGeom prst="line">
            <a:avLst/>
          </a:prstGeom>
          <a:ln w="7632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6808680" y="5230440"/>
            <a:ext cx="354240" cy="738360"/>
          </a:xfrm>
          <a:prstGeom prst="line">
            <a:avLst/>
          </a:prstGeom>
          <a:ln w="7632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818400" y="5761080"/>
            <a:ext cx="750960" cy="677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5661000" y="5784840"/>
            <a:ext cx="719280" cy="649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7738920" y="3521160"/>
            <a:ext cx="1000440" cy="10461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6537240" y="2112840"/>
            <a:ext cx="998640" cy="1044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V="1">
            <a:off x="6880320" y="3982680"/>
            <a:ext cx="1062000" cy="577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856560" y="3128760"/>
            <a:ext cx="71280" cy="1293480"/>
          </a:xfrm>
          <a:prstGeom prst="line">
            <a:avLst/>
          </a:prstGeom>
          <a:ln w="7632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7772400" y="1981080"/>
            <a:ext cx="998640" cy="1044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324480" y="4191120"/>
            <a:ext cx="1000080" cy="1046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620120" y="1752480"/>
            <a:ext cx="136836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ctr"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Times New Roman"/>
              </a:rPr>
              <a:t>Плановый отдел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24480" y="1905120"/>
            <a:ext cx="136872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ctr"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Times New Roman"/>
              </a:rPr>
              <a:t>Отдел ОТиЗ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0120" y="3124080"/>
            <a:ext cx="1260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9600" rIns="39600" tIns="19800" bIns="19800" anchor="t">
            <a:spAutoFit/>
          </a:bodyPr>
          <a:p>
            <a:pPr algn="ctr"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Times New Roman"/>
              </a:rPr>
              <a:t>Отдел налоговой политики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5146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ерерасчет подоходного налог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0481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Формирование отчетов в Гни РФ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160" y="3657600"/>
            <a:ext cx="544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ыдача отчетов для ОТиЗ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" y="4572000"/>
            <a:ext cx="572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Работа с плановым отделом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(в перспективе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9496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523880" y="1981080"/>
            <a:ext cx="7032600" cy="4488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752480" y="1828800"/>
            <a:ext cx="6553440" cy="4719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бор информации из АРМов заработная плата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371600" y="2286000"/>
            <a:ext cx="7496280" cy="3619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 flipH="1" rot="10800000">
            <a:off x="6248520" y="4571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 flipH="1" rot="10800000">
            <a:off x="5943600" y="22093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2133720" y="2743200"/>
            <a:ext cx="4181400" cy="18572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 flipH="1" rot="10800000">
            <a:off x="5181480" y="3580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9"/>
          <a:stretch/>
        </p:blipFill>
        <p:spPr>
          <a:xfrm>
            <a:off x="3505320" y="3505320"/>
            <a:ext cx="308592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Информационно справочная служба системы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057400" y="1700280"/>
            <a:ext cx="7086600" cy="5103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990720" y="2362320"/>
            <a:ext cx="5105160" cy="4273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 flipH="1" rot="10800000">
            <a:off x="5410080" y="213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1981080" y="1700280"/>
            <a:ext cx="7162920" cy="5157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2133720" y="2743200"/>
            <a:ext cx="4181400" cy="18572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 flipH="1" rot="10800000">
            <a:off x="5257800" y="3505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8"/>
          <a:stretch/>
        </p:blipFill>
        <p:spPr>
          <a:xfrm flipH="1" rot="10800000">
            <a:off x="5334120" y="2590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9"/>
          <a:stretch/>
        </p:blipFill>
        <p:spPr>
          <a:xfrm>
            <a:off x="990720" y="743040"/>
            <a:ext cx="8153280" cy="6114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0"/>
          <a:stretch/>
        </p:blipFill>
        <p:spPr>
          <a:xfrm flipH="1" rot="10800000">
            <a:off x="4419720" y="3962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1"/>
          <a:stretch/>
        </p:blipFill>
        <p:spPr>
          <a:xfrm>
            <a:off x="304920" y="114300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Режим проверки подоходного налога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057400" y="1755720"/>
            <a:ext cx="7086600" cy="5102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429000" y="3124080"/>
            <a:ext cx="4324320" cy="15242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3048120" y="4419720"/>
            <a:ext cx="3305160" cy="1333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 flipH="1" rot="10800000">
            <a:off x="4038480" y="2437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 flipH="1" rot="10800000">
            <a:off x="6553080" y="38858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380880" y="1676520"/>
            <a:ext cx="8458200" cy="45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4920" y="3505320"/>
            <a:ext cx="624996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Отчеты для планового отдела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(в перспективе)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266688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Отчеты для ОТиЗ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роизводство отчетности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Отчеты в Гни РФ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209680" y="1828800"/>
            <a:ext cx="6553440" cy="4521240"/>
            <a:chOff x="2209680" y="1828800"/>
            <a:chExt cx="6553440" cy="4521240"/>
          </a:xfrm>
        </p:grpSpPr>
        <p:pic>
          <p:nvPicPr>
            <p:cNvPr id="154" name="" descr=""/>
            <p:cNvPicPr/>
            <p:nvPr/>
          </p:nvPicPr>
          <p:blipFill>
            <a:blip r:embed="rId2"/>
            <a:stretch/>
          </p:blipFill>
          <p:spPr>
            <a:xfrm>
              <a:off x="2209680" y="1828800"/>
              <a:ext cx="6553440" cy="45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362320" y="2286000"/>
              <a:ext cx="4647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Налоговая карточка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2819520"/>
              <a:ext cx="617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Отчет об итоговых суммах доходов и п/н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352680"/>
              <a:ext cx="6248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Реестр сведений о доходах физических лиц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62320" y="3886200"/>
              <a:ext cx="6095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писок работников с прогрессивным налогообложением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62320" y="4724280"/>
              <a:ext cx="609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правка о доходах физического лица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62320" y="5181480"/>
              <a:ext cx="6019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8000"/>
                  </a:solidFill>
                  <a:latin typeface="Tahoma"/>
                </a:rPr>
                <a:t> </a:t>
              </a: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Файл на магнитный носитель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914400" y="1828800"/>
            <a:ext cx="8043840" cy="3510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 flipH="1" rot="10800000">
            <a:off x="5105520" y="28951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685800" y="457200"/>
            <a:ext cx="8458200" cy="616752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380880" y="1295280"/>
            <a:ext cx="8763120" cy="5181840"/>
            <a:chOff x="380880" y="1295280"/>
            <a:chExt cx="8763120" cy="5181840"/>
          </a:xfrm>
        </p:grpSpPr>
        <p:pic>
          <p:nvPicPr>
            <p:cNvPr id="165" name="" descr=""/>
            <p:cNvPicPr/>
            <p:nvPr/>
          </p:nvPicPr>
          <p:blipFill>
            <a:blip r:embed="rId6"/>
            <a:stretch/>
          </p:blipFill>
          <p:spPr>
            <a:xfrm>
              <a:off x="380880" y="1295280"/>
              <a:ext cx="8610840" cy="518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457200" y="1676520"/>
              <a:ext cx="83818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остав ФЗП согласно классификатора должностей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57200" y="2057400"/>
              <a:ext cx="85345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остав ФЗП согласно классификатора кодов по начислению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7200" y="2438280"/>
              <a:ext cx="5029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остав ФЗП по участкам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" y="2819520"/>
              <a:ext cx="5029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остав ФЗП по цехам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3200400"/>
              <a:ext cx="6858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Отчет по составу ФЗП, ФМП, прочих фондов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" y="3581280"/>
              <a:ext cx="8305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вод по начислениям с отображением балансовых счетов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7200" y="4343400"/>
              <a:ext cx="8077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Отчет по численности и заработной плате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7200" y="3962520"/>
              <a:ext cx="8077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вод по отпускам и отгулам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4724280"/>
              <a:ext cx="8686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Состав ФЗП согласно классификатора категорий персонала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7200" y="5181480"/>
              <a:ext cx="8305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0000"/>
            </a:bodyPr>
            <a:p>
              <a:pPr marL="240120" indent="-240120">
                <a:lnSpc>
                  <a:spcPct val="100000"/>
                </a:lnSpc>
                <a:spcBef>
                  <a:spcPts val="601"/>
                </a:spcBef>
                <a:buClr>
                  <a:srgbClr val="ff3300"/>
                </a:buClr>
                <a:buSzPct val="75000"/>
                <a:buFont typeface="Monotype Sort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66ff"/>
                  </a:solidFill>
                  <a:latin typeface="Times New Roman"/>
                </a:rPr>
                <a:t>Отчет о размере ФЗП по произвольному коду начисления, цеху, участку и периоду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285840" y="1143000"/>
            <a:ext cx="8572320" cy="4572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304920" y="2438280"/>
            <a:ext cx="6019560" cy="4149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9"/>
          <a:stretch/>
        </p:blipFill>
        <p:spPr>
          <a:xfrm flipH="1" rot="10800000">
            <a:off x="4038480" y="2819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0"/>
          <a:stretch/>
        </p:blipFill>
        <p:spPr>
          <a:xfrm>
            <a:off x="457200" y="1676520"/>
            <a:ext cx="8572680" cy="46670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1"/>
          <a:stretch/>
        </p:blipFill>
        <p:spPr>
          <a:xfrm flipH="1" rot="10800000">
            <a:off x="4191120" y="2362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2"/>
          <a:stretch/>
        </p:blipFill>
        <p:spPr>
          <a:xfrm>
            <a:off x="1219320" y="992160"/>
            <a:ext cx="7696080" cy="5611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еттих М.В.</cp:lastModifiedBy>
  <dcterms:modified xsi:type="dcterms:W3CDTF">1990-10-20T18:01:51Z</dcterms:modified>
  <cp:revision>199</cp:revision>
  <dc:subject/>
  <dc:title>Заголовок слайда отсутствует</dc:title>
</cp:coreProperties>
</file>