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B14-13EF-4224-93DE-DAC1F867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CC4-74E5-473E-82C4-A6B75BC7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5F2-2CAE-415B-8AFE-7162E465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FD41-D47D-4073-AF8A-7357872F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5B2E-D460-40FB-9C91-29AD38E2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0E34-8252-4682-8DEC-3CC5C8CB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BA8-0991-4638-A534-328F199D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CD9-0D75-4C3E-83D8-F906A80E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D58-3E26-4CD0-BA69-B68B4953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CC89-80B4-4572-A2E6-1F0AE449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A65-F02A-4C7A-A3F4-69E27FE1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0E6-2A05-4AAF-A1C0-E317DED4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6866-24EC-4E38-A267-5F7A0929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43000" y="529200"/>
            <a:ext cx="7176960" cy="5704920"/>
            <a:chOff x="1143000" y="529200"/>
            <a:chExt cx="7176960" cy="5704920"/>
          </a:xfrm>
        </p:grpSpPr>
        <p:grpSp>
          <p:nvGrpSpPr>
            <p:cNvPr id="42" name=""/>
            <p:cNvGrpSpPr/>
            <p:nvPr/>
          </p:nvGrpSpPr>
          <p:grpSpPr>
            <a:xfrm>
              <a:off x="1143000" y="529200"/>
              <a:ext cx="7176960" cy="4433400"/>
              <a:chOff x="1143000" y="529200"/>
              <a:chExt cx="7176960" cy="4433400"/>
            </a:xfrm>
          </p:grpSpPr>
          <p:sp>
            <p:nvSpPr>
              <p:cNvPr id="43" name=""/>
              <p:cNvSpPr/>
              <p:nvPr/>
            </p:nvSpPr>
            <p:spPr>
              <a:xfrm>
                <a:off x="2346120" y="446112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" name=""/>
              <p:cNvGrpSpPr/>
              <p:nvPr/>
            </p:nvGrpSpPr>
            <p:grpSpPr>
              <a:xfrm>
                <a:off x="3657600" y="2676600"/>
                <a:ext cx="1904760" cy="685800"/>
                <a:chOff x="3657600" y="2676600"/>
                <a:chExt cx="1904760" cy="6858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3657600" y="2676600"/>
                  <a:ext cx="1904760" cy="685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488c4"/>
                    </a:gs>
                    <a:gs pos="100000">
                      <a:srgbClr val="96ab94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945240" y="2764080"/>
                  <a:ext cx="1393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СургутГазПром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аппара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" name=""/>
              <p:cNvSpPr/>
              <p:nvPr/>
            </p:nvSpPr>
            <p:spPr>
              <a:xfrm rot="17104200">
                <a:off x="3235320" y="971280"/>
                <a:ext cx="152280" cy="2667240"/>
              </a:xfrm>
              <a:prstGeom prst="downArrow">
                <a:avLst>
                  <a:gd name="adj1" fmla="val 49676"/>
                  <a:gd name="adj2" fmla="val 37025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4371600">
                <a:off x="5720040" y="1129680"/>
                <a:ext cx="149400" cy="2351160"/>
              </a:xfrm>
              <a:prstGeom prst="downArrow">
                <a:avLst>
                  <a:gd name="adj1" fmla="val 49676"/>
                  <a:gd name="adj2" fmla="val 33267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9392600">
                <a:off x="3830400" y="457200"/>
                <a:ext cx="136800" cy="2422800"/>
              </a:xfrm>
              <a:prstGeom prst="downArrow">
                <a:avLst>
                  <a:gd name="adj1" fmla="val 49676"/>
                  <a:gd name="adj2" fmla="val 374381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53600">
                <a:off x="5081040" y="555480"/>
                <a:ext cx="152640" cy="2209680"/>
              </a:xfrm>
              <a:prstGeom prst="downArrow">
                <a:avLst>
                  <a:gd name="adj1" fmla="val 49676"/>
                  <a:gd name="adj2" fmla="val 306015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2895480" y="529200"/>
                <a:ext cx="1096920" cy="609840"/>
                <a:chOff x="2895480" y="529200"/>
                <a:chExt cx="1096920" cy="6098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2895480" y="619200"/>
                  <a:ext cx="109692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rot="20834400">
                  <a:off x="2947680" y="6346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4941000" y="544320"/>
                <a:ext cx="1471320" cy="583200"/>
                <a:chOff x="4941000" y="544320"/>
                <a:chExt cx="1471320" cy="583200"/>
              </a:xfrm>
            </p:grpSpPr>
            <p:sp>
              <p:nvSpPr>
                <p:cNvPr id="55" name=""/>
                <p:cNvSpPr/>
                <p:nvPr/>
              </p:nvSpPr>
              <p:spPr>
                <a:xfrm rot="197400">
                  <a:off x="4952880" y="619200"/>
                  <a:ext cx="1447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663600">
                  <a:off x="5198400" y="63648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К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143000" y="1183320"/>
                <a:ext cx="2193840" cy="1113120"/>
                <a:chOff x="1143000" y="1183320"/>
                <a:chExt cx="2193840" cy="11131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1143000" y="1533600"/>
                  <a:ext cx="219384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8885600">
                  <a:off x="1670040" y="1540440"/>
                  <a:ext cx="11728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000" spc="-1" strike="noStrike">
                      <a:solidFill>
                        <a:srgbClr val="000000"/>
                      </a:solidFill>
                      <a:latin typeface="Times New Roman"/>
                    </a:rPr>
                    <a:t>          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5486400" y="1316520"/>
                <a:ext cx="2833560" cy="991080"/>
                <a:chOff x="5486400" y="1316520"/>
                <a:chExt cx="2833560" cy="991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486400" y="1609560"/>
                  <a:ext cx="2833560" cy="457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2712000">
                  <a:off x="6401880" y="1612440"/>
                  <a:ext cx="100080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Подразделение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№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"/>
              <p:cNvSpPr/>
              <p:nvPr/>
            </p:nvSpPr>
            <p:spPr>
              <a:xfrm>
                <a:off x="3733560" y="4505400"/>
                <a:ext cx="1600200" cy="457200"/>
              </a:xfrm>
              <a:prstGeom prst="rect">
                <a:avLst/>
              </a:pr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ГНИ РФ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343400" y="3362400"/>
                <a:ext cx="485640" cy="1066680"/>
              </a:xfrm>
              <a:prstGeom prst="downArrow">
                <a:avLst>
                  <a:gd name="adj1" fmla="val 50000"/>
                  <a:gd name="adj2" fmla="val 54911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1676520" y="5410080"/>
              <a:ext cx="4857120" cy="824040"/>
              <a:chOff x="1676520" y="5410080"/>
              <a:chExt cx="4857120" cy="824040"/>
            </a:xfrm>
          </p:grpSpPr>
          <p:sp>
            <p:nvSpPr>
              <p:cNvPr id="66" name=""/>
              <p:cNvSpPr/>
              <p:nvPr/>
            </p:nvSpPr>
            <p:spPr>
              <a:xfrm>
                <a:off x="1676520" y="550080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c3d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676520" y="5996160"/>
                <a:ext cx="1828440" cy="180720"/>
              </a:xfrm>
              <a:prstGeom prst="rightArrow">
                <a:avLst>
                  <a:gd name="adj1" fmla="val 50000"/>
                  <a:gd name="adj2" fmla="val 252938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49320" y="5410080"/>
                <a:ext cx="28843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от подразделений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Информация в налоговую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51:45Z</dcterms:created>
  <dc:creator>Геттих М.В.</dc:creator>
  <dc:description/>
  <dc:language>en-US</dc:language>
  <cp:lastModifiedBy>Геттих М.В.</cp:lastModifiedBy>
  <cp:lastPrinted>1999-09-13T06:44:42Z</cp:lastPrinted>
  <dcterms:modified xsi:type="dcterms:W3CDTF">1999-09-17T09:53:14Z</dcterms:modified>
  <cp:revision>9</cp:revision>
  <dc:subject/>
  <dc:title>Заголовок слайда отсутствует</dc:title>
</cp:coreProperties>
</file>