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004000" cy="22632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E43F-F7CC-442E-8078-45427DC56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00120" y="13631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F620-1E7F-47DD-A464-C5F17E13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3393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E38C-D792-4D0A-ABF4-37C86DC63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59776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079504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0012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59776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079504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53DB-D4F8-47FD-BAE9-98E3AD5A0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EDB8-517A-4939-98BA-468D7045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39C0-47CD-4D24-8544-3A24E568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7989-DF14-4975-BEEA-B71ADEF5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33BD-2415-4D14-9D64-60FBA308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00120" y="2009880"/>
            <a:ext cx="27203400" cy="1749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B475-0C5A-4F35-9BCA-2A369D0B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9939-351F-4F19-911C-0E2D3064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3393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1396-97D1-4B0A-9C10-AE269326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9DC1-E232-4865-9BBF-DE58092C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10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marL="846000" indent="-8460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1" marL="1835280" indent="-70344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24200" indent="-5652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3" marL="3956040" indent="-56520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4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5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6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00480" y="20621160"/>
            <a:ext cx="666720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934640" y="20621160"/>
            <a:ext cx="1013472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935960" y="20621160"/>
            <a:ext cx="666756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 algn="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fld id="{0A26F430-08DA-459C-8254-6DA8823A3CC0}" type="slidenum"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8360" y="1596960"/>
            <a:ext cx="31265640" cy="21034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92120" y="503280"/>
            <a:ext cx="307213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Омский Государственный Технический Университе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872680" y="20267640"/>
            <a:ext cx="171432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Разработал: студент АСОИУ Геттих М.В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Руководитель: Гл.конструктор НПО «Автоматика» Чегодаев В.Н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938240"/>
            <a:ext cx="3200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Дипломный проект</a:t>
            </a:r>
            <a:r>
              <a:rPr b="0" lang="en-US" sz="45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 Разработка системы по сбору информации о доходах физических лиц для формирования отчетности в ГНИ РФ по объединению СургутГазПро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76360" y="20954880"/>
            <a:ext cx="37051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Сургут 19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8280" y="3505320"/>
            <a:ext cx="9535320" cy="91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Внедрение системы позволит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02160" y="18897480"/>
            <a:ext cx="8861400" cy="26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spcBef>
                <a:spcPts val="2038"/>
              </a:spcBef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оимость разработк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68 000 руб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38"/>
              </a:spcBef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рок окупаемости 8 мес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38"/>
              </a:spcBef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латформа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dows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0744200" y="8534520"/>
          <a:ext cx="13235040" cy="6600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44200" y="8534520"/>
                    <a:ext cx="13235040" cy="66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1371600" y="4572000"/>
            <a:ext cx="15849720" cy="376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lnSpc>
                <a:spcPts val="7223"/>
              </a:lnSpc>
              <a:buClr>
                <a:srgbClr val="0000ff"/>
              </a:buClr>
              <a:buFont typeface="Monotype Sorts" charset="2"/>
              <a:buChar char="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Подготовить отчеты в ГНИ за 1 ден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223"/>
              </a:lnSpc>
              <a:buClr>
                <a:srgbClr val="0000ff"/>
              </a:buClr>
              <a:buFont typeface="Monotype Sorts" charset="2"/>
              <a:buChar char="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Резко снизить вероятность штрафов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223"/>
              </a:lnSpc>
              <a:buClr>
                <a:srgbClr val="0000ff"/>
              </a:buClr>
              <a:buFont typeface="Monotype Sorts" charset="2"/>
              <a:buChar char="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Получить полную информацию о заработной плате в любом разрез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2400" y="10134720"/>
            <a:ext cx="6856200" cy="80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Основные возможности: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06640" y="10972800"/>
            <a:ext cx="1093536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5640" rIns="215640" tIns="108000" bIns="108000" anchor="t">
            <a:spAutoFit/>
          </a:bodyPr>
          <a:p>
            <a:pPr>
              <a:buClr>
                <a:srgbClr val="3333cc"/>
              </a:buClr>
              <a:buFont typeface="Monotype Sorts" charset="2"/>
              <a:buChar char=""/>
              <a:tabLst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Сбор информации о дохода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Monotype Sorts" charset="2"/>
              <a:buChar char=""/>
              <a:tabLst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Перерасчет подоходного налог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Monotype Sorts" charset="2"/>
              <a:buChar char=""/>
              <a:tabLst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Формирование отчетов в ГНИ Р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Monotype Sorts" charset="2"/>
              <a:buChar char=""/>
              <a:tabLst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Выдача отчетов для ОТиЗ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Monotype Sorts" charset="2"/>
              <a:buChar char=""/>
              <a:tabLst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Работа с плановым отдело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(в перспективе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40360" y="6035760"/>
            <a:ext cx="4431960" cy="2009520"/>
          </a:xfrm>
          <a:prstGeom prst="wedgeRoundRectCallout">
            <a:avLst>
              <a:gd name="adj1" fmla="val -71347"/>
              <a:gd name="adj2" fmla="val 253157"/>
              <a:gd name="adj3" fmla="val 16667"/>
            </a:avLst>
          </a:prstGeom>
          <a:gradFill rotWithShape="0">
            <a:gsLst>
              <a:gs pos="0">
                <a:srgbClr val="00cc99"/>
              </a:gs>
              <a:gs pos="100000">
                <a:srgbClr val="00ff00"/>
              </a:gs>
            </a:gsLst>
            <a:lin ang="5400000"/>
          </a:gra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15640" rIns="215640" tIns="108000" bIns="108000" anchor="ctr">
            <a:noAutofit/>
          </a:bodyPr>
          <a:p>
            <a:pPr algn="ctr">
              <a:tabLst>
                <a:tab algn="l" pos="0"/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День внедрения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системы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25141320" y="15279480"/>
            <a:ext cx="5262480" cy="2517480"/>
          </a:xfrm>
          <a:prstGeom prst="line">
            <a:avLst/>
          </a:prstGeom>
          <a:ln w="15228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259800" y="19242000"/>
            <a:ext cx="1021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мпьютеры в бухгалтериях подраздел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984080" y="13792320"/>
            <a:ext cx="286704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ерве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9038680" y="17032320"/>
            <a:ext cx="2473200" cy="2233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V="1">
            <a:off x="22552200" y="15279840"/>
            <a:ext cx="2589120" cy="2366640"/>
          </a:xfrm>
          <a:prstGeom prst="line">
            <a:avLst/>
          </a:prstGeom>
          <a:ln w="15228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25140960" y="15279480"/>
            <a:ext cx="1144440" cy="2438280"/>
          </a:xfrm>
          <a:prstGeom prst="line">
            <a:avLst/>
          </a:prstGeom>
          <a:ln w="15228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5150680" y="17032320"/>
            <a:ext cx="2473560" cy="2233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21409200" y="17108640"/>
            <a:ext cx="2373120" cy="2143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28111320" y="9637560"/>
            <a:ext cx="3305160" cy="345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24231600" y="4994280"/>
            <a:ext cx="3295800" cy="3446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V="1">
            <a:off x="25373160" y="11163240"/>
            <a:ext cx="3430440" cy="1906560"/>
          </a:xfrm>
          <a:prstGeom prst="line">
            <a:avLst/>
          </a:prstGeom>
          <a:ln w="15228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5295400" y="8345160"/>
            <a:ext cx="231480" cy="4267080"/>
          </a:xfrm>
          <a:prstGeom prst="line">
            <a:avLst/>
          </a:prstGeom>
          <a:ln w="15228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28195560" y="5070600"/>
            <a:ext cx="3295800" cy="3446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V="1">
            <a:off x="25295400" y="8297640"/>
            <a:ext cx="3016080" cy="4467240"/>
          </a:xfrm>
          <a:prstGeom prst="line">
            <a:avLst/>
          </a:prstGeom>
          <a:ln cap="rnd" w="152280">
            <a:solidFill>
              <a:srgbClr val="3333cc"/>
            </a:solidFill>
            <a:custDash>
              <a:ds d="100000" sp="1000"/>
            </a:custDash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641680" y="5410080"/>
            <a:ext cx="35892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240" rIns="66240" tIns="33120" bIns="33120" anchor="t">
            <a:spAutoFit/>
          </a:bodyPr>
          <a:p>
            <a:pPr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049400" y="8686800"/>
            <a:ext cx="395460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дел налоговой полит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582840" y="4524480"/>
            <a:ext cx="442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лановый отде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2120" y="3809880"/>
            <a:ext cx="442116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мпьютер отдела ОТи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0"/>
          <a:stretch/>
        </p:blipFill>
        <p:spPr>
          <a:xfrm>
            <a:off x="23542560" y="11847600"/>
            <a:ext cx="33051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0T07:44:58Z</dcterms:created>
  <dc:creator>Andrey Lyashenko</dc:creator>
  <dc:description/>
  <dc:language>en-US</dc:language>
  <cp:lastModifiedBy>Геттих М.В.</cp:lastModifiedBy>
  <cp:lastPrinted>1999-10-14T12:59:21Z</cp:lastPrinted>
  <dcterms:modified xsi:type="dcterms:W3CDTF">1990-10-22T04:04:21Z</dcterms:modified>
  <cp:revision>36</cp:revision>
  <dc:subject/>
  <dc:title>Заголовок слайда отсутствует</dc:title>
</cp:coreProperties>
</file>