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D7B-6545-4A88-8DD4-58F4E005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244-F12E-41B1-B0B2-1BA7AD64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0EE0-9CEE-4FBA-8A3B-585F16E9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C27-2633-4BBC-97AE-C7ACCEF3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C57E-5D5E-49A6-9EB9-11E34D33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CEE0-FA9B-4812-A202-F75C66D9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986B-D29F-4A59-B12E-C34FC336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82AA-54A6-43EB-B476-DBE6772B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90F6-2FF0-4FB5-8328-D8CB64DD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4D73-3D78-418D-B5DE-BA963A88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49D0-8194-442F-A925-12837A8C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2601-2921-424A-831D-75896501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A039-071D-4ECF-A404-CDFD7A59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8900-0FC6-43F0-A736-BA82B3FF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F5C2-0EAE-476B-B01E-C964E042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ED41-6F36-497A-BE94-F02738C4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A224-E083-42C3-8CCD-372FC2A0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1C9-3349-417E-9BFE-354C4110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315-2C7F-496C-8C7C-994BB525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75D0-6308-4101-939B-DB366994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076-9C25-41EF-B581-FC64861C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6A3B-3383-42B2-BA14-7AA0AA43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EAD-09C9-4C0E-8260-F3CAB639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063-4BF7-4E73-BDD2-21D8AA40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A0E1-FABA-450D-B8D8-D104318C656F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9A15-E42B-4F1A-B078-8EDD0CBB7245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3.png"/><Relationship Id="rId10" Type="http://schemas.openxmlformats.org/officeDocument/2006/relationships/image" Target="../media/image7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7.png"/><Relationship Id="rId10" Type="http://schemas.openxmlformats.org/officeDocument/2006/relationships/image" Target="../media/image25.png"/><Relationship Id="rId11" Type="http://schemas.openxmlformats.org/officeDocument/2006/relationships/image" Target="../media/image7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Дипломный проект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276720"/>
            <a:ext cx="8458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6461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ургут  199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5486400"/>
            <a:ext cx="44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работк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еттих М.В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уководитель: Чегодаев В.Н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истемные и сервисные функци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31640" y="1981080"/>
            <a:ext cx="54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индексация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8400" y="2514600"/>
            <a:ext cx="70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зервное копирование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4800" y="3657600"/>
            <a:ext cx="69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аролей и прав доступ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000" y="48769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локно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0920" y="5486400"/>
            <a:ext cx="295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ькулятор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000" y="6019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ендар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600" y="3124080"/>
            <a:ext cx="831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утей к АРМам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9480" y="426708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бор текущего подразделен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162080" y="1447920"/>
            <a:ext cx="7981920" cy="509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315120" y="2666880"/>
            <a:ext cx="2828880" cy="1800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572000" y="1905120"/>
            <a:ext cx="3705120" cy="2628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523880" y="7621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5638680" y="3962520"/>
            <a:ext cx="2476800" cy="2400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3505320" y="3695760"/>
            <a:ext cx="458136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334120" y="3276720"/>
            <a:ext cx="3295440" cy="2676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38080" y="9907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я о средствах разработк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0574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проведена на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lphi 4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514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 использованием СУБД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terBase v 5.0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2838600" cy="19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щая информация о продукт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057400"/>
            <a:ext cx="784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ля работы необходимо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514600"/>
            <a:ext cx="6019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95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2971800"/>
            <a:ext cx="655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ть под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95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3733920"/>
            <a:ext cx="7848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тоимость разработки 68000 рубле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9625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настоящее время разработка находится в промышленной эксплуатации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9907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828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недрение разработки позволяет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3623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начительно упростить и ускорить процесс подготовки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5812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высить качество отчетност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41911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качественно новые, недоступные ранее виды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52578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общую картину о заработной плате в объединен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2133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 ..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87480" y="990720"/>
            <a:ext cx="41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АО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60" y="3352680"/>
            <a:ext cx="90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 двадцать лет добыто более 384571,7 м</a:t>
            </a:r>
            <a:r>
              <a:rPr b="1" i="1" lang="ru-RU" sz="3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аз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320" y="2085840"/>
            <a:ext cx="32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здан в 1977г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080" y="2743200"/>
            <a:ext cx="76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стоит из 25 крупных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значение разработк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втоматизация работы отдела налоговой политики, отдела ОТиЗ предприятия «СургутГазПром» и бухгалтерий его территориально распределённых подразделений в области отчетности с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обходимость в собственной разработки обусловлен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пецифичностью организации предприятия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именяемой СУБД для расчета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озможной интеграцией системы с уже существующими на предприятии программными комплексами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6875640" y="3047760"/>
            <a:ext cx="896760" cy="1315800"/>
          </a:xfrm>
          <a:prstGeom prst="line">
            <a:avLst/>
          </a:prstGeom>
          <a:ln cap="rnd" w="76320">
            <a:solidFill>
              <a:srgbClr val="9999ff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сновные возможности програм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бор информации о доходах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808320" y="5230440"/>
            <a:ext cx="1629000" cy="76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07000" y="6431040"/>
            <a:ext cx="3160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27800" y="4791240"/>
            <a:ext cx="825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Times New Roman"/>
              </a:rPr>
              <a:t>Сервер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1520" y="5761080"/>
            <a:ext cx="75096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6006960" y="5230440"/>
            <a:ext cx="801720" cy="716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6808680" y="5230440"/>
            <a:ext cx="354240" cy="73836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18400" y="5761080"/>
            <a:ext cx="750960" cy="677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61000" y="5784840"/>
            <a:ext cx="719280" cy="649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738920" y="3521160"/>
            <a:ext cx="1000440" cy="1046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537240" y="2112840"/>
            <a:ext cx="998640" cy="1044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6880320" y="3982680"/>
            <a:ext cx="1062000" cy="57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856560" y="3128760"/>
            <a:ext cx="71280" cy="1293480"/>
          </a:xfrm>
          <a:prstGeom prst="line">
            <a:avLst/>
          </a:prstGeom>
          <a:ln w="7632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772400" y="1981080"/>
            <a:ext cx="998640" cy="1044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324480" y="4191120"/>
            <a:ext cx="1000080" cy="1046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20120" y="1752480"/>
            <a:ext cx="13683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Плановый отдел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1905120"/>
            <a:ext cx="1368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ОТиЗ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124080"/>
            <a:ext cx="126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налоговой политики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146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ерасчет подоходного нало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048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ормирование отчетов в Гни РФ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60" y="3657600"/>
            <a:ext cx="54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дача отчетов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" y="4572000"/>
            <a:ext cx="572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бота с плановым отдел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9496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7032600" cy="4488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752480" y="1828800"/>
            <a:ext cx="6553440" cy="4719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бор информации из АРМов заработная плат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1600" y="2286000"/>
            <a:ext cx="7496280" cy="361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 flipH="1" rot="10800000">
            <a:off x="6248520" y="4571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 flipH="1" rot="10800000">
            <a:off x="5943600" y="2209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 flipH="1" rot="10800000">
            <a:off x="5181480" y="3580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3505320" y="3505320"/>
            <a:ext cx="30859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онно справочная служба систе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1700280"/>
            <a:ext cx="7086600" cy="5103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5105160" cy="4273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 flipH="1" rot="10800000">
            <a:off x="54100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981080" y="1700280"/>
            <a:ext cx="7162920" cy="5157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 flipH="1" rot="10800000">
            <a:off x="52578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 flipH="1" rot="10800000">
            <a:off x="5334120" y="2590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990720" y="743040"/>
            <a:ext cx="8153280" cy="6114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 flipH="1" rot="10800000">
            <a:off x="44197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3049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ежим проверки подоходного налог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057400" y="1755720"/>
            <a:ext cx="7086600" cy="5102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429000" y="3124080"/>
            <a:ext cx="4324320" cy="1524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048120" y="4419720"/>
            <a:ext cx="3305160" cy="1333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 flipH="1" rot="10800000">
            <a:off x="4038480" y="243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 flipH="1" rot="10800000">
            <a:off x="6553080" y="38858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380880" y="1676520"/>
            <a:ext cx="845820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3505320"/>
            <a:ext cx="62499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Отчеты для планового отдела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6668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изводство отчетност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в Гни РФ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09680" y="1828800"/>
            <a:ext cx="6553440" cy="4521240"/>
            <a:chOff x="2209680" y="1828800"/>
            <a:chExt cx="6553440" cy="452124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2209680" y="1828800"/>
              <a:ext cx="65534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362320" y="2286000"/>
              <a:ext cx="46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Налоговая карточк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2819520"/>
              <a:ext cx="617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б итоговых суммах доходов и п/н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352680"/>
              <a:ext cx="624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Реестр сведений о доходах физических лиц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62320" y="3886200"/>
              <a:ext cx="6095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исок работников с прогрессивным налогообложение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62320" y="4724280"/>
              <a:ext cx="609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равка о доходах физического лиц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62320" y="5181480"/>
              <a:ext cx="601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Файл на магнитный носитель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043840" cy="3510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 flipH="1" rot="10800000">
            <a:off x="5105520" y="2895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685800" y="457200"/>
            <a:ext cx="8458200" cy="61675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380880" y="1295280"/>
            <a:ext cx="8763120" cy="5181840"/>
            <a:chOff x="380880" y="1295280"/>
            <a:chExt cx="8763120" cy="518184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380880" y="1295280"/>
              <a:ext cx="861084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57200" y="1676520"/>
              <a:ext cx="838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должностей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" y="2057400"/>
              <a:ext cx="8534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одов по начислению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243828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участк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81952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цех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3200400"/>
              <a:ext cx="68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составу ФЗП, ФМП, прочих фонд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35812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начислениям с отображением балансовых счет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434340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численности и заработной плате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96252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отпускам и отгул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4724280"/>
              <a:ext cx="8686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атегорий персонал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" y="51814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marL="240120" indent="-24012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 размере ФЗП по произвольному коду начисления, цеху, участку и периоду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285840" y="1143000"/>
            <a:ext cx="8572320" cy="4572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304920" y="2438280"/>
            <a:ext cx="6019560" cy="4149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 flipH="1" rot="10800000">
            <a:off x="40384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457200" y="1676520"/>
            <a:ext cx="8572680" cy="4667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 flipH="1" rot="10800000"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1219320" y="992160"/>
            <a:ext cx="7696080" cy="561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еттих М.В.</cp:lastModifiedBy>
  <dcterms:modified xsi:type="dcterms:W3CDTF">1990-10-20T18:01:51Z</dcterms:modified>
  <cp:revision>199</cp:revision>
  <dc:subject/>
  <dc:title>Заголовок слайда отсутствует</dc:title>
</cp:coreProperties>
</file>