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E0F-08DE-4C01-B18A-3674C745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24D-B79A-49A5-AE4A-73438739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A5D-5CA0-430D-82DD-05A3B3C2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55A-189E-44B3-A69E-761F464A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C73-5C77-4CE5-9BCD-9C5FE715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30E-8047-456C-B777-10ADA357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569-8F4D-4692-B654-7D40E06F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086-C64C-490C-9146-8C9F9226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07B-425E-413D-BE92-2A4261B2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46A-8FB2-4934-94F2-9491BFF6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CEA-556A-4061-B43B-E8F209E1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9E1-93DC-46CC-809A-EE5B4D8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A3C3A77C-6D6A-480C-BD32-A0A1972693C9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503280"/>
            <a:ext cx="32004000" cy="21366000"/>
            <a:chOff x="0" y="503280"/>
            <a:chExt cx="32004000" cy="21366000"/>
          </a:xfrm>
        </p:grpSpPr>
        <p:sp>
          <p:nvSpPr>
            <p:cNvPr id="43" name=""/>
            <p:cNvSpPr/>
            <p:nvPr/>
          </p:nvSpPr>
          <p:spPr>
            <a:xfrm>
              <a:off x="738360" y="1596960"/>
              <a:ext cx="30351240" cy="20272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2120" y="503280"/>
              <a:ext cx="307213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Омский Государственный Технический Университе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399560" y="20269080"/>
              <a:ext cx="1714320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азработал: студент АСОИУ Геттих М.В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уководитель: Гл.конструктор НПО «Автоматика» Чегодаев В.Н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938240"/>
              <a:ext cx="3200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imes New Roman"/>
                </a:rPr>
                <a:t>Дипломный проект</a:t>
              </a:r>
              <a:r>
                <a:rPr b="0" lang="en-US" sz="4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3600"/>
              </a:br>
              <a:r>
                <a:rPr b="0" lang="en-US" sz="3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76360" y="20954880"/>
              <a:ext cx="37051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Сургут 199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8280" y="3505320"/>
              <a:ext cx="9535320" cy="91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Внедрение системы позволит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21480" y="17525880"/>
              <a:ext cx="8861400" cy="26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тоимость разработки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68 000 руб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рок окупаемости 8 мес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Платформа: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Windows 9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0287000" y="8610480"/>
            <a:ext cx="13235040" cy="66009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287000" y="8610480"/>
                      <a:ext cx="13235040" cy="660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1371600" y="4572000"/>
              <a:ext cx="15849720" cy="376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дготовить отчеты в ГНИ за 1 день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Резко снизить вероятность штрафо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лучить полную информацию о заработной плате в любом разрезе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0" y="10134720"/>
              <a:ext cx="6856200" cy="809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4700" spc="-1" strike="noStrike">
                  <a:solidFill>
                    <a:srgbClr val="000000"/>
                  </a:solidFill>
                  <a:latin typeface="Times New Roman"/>
                </a:rPr>
                <a:t>Основные возможности: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6640" y="10972800"/>
              <a:ext cx="10935360" cy="51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t">
              <a:spAutoFit/>
            </a:bodyPr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Сбор информации о доходах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Перерасчет подоходного налог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Формирование отчетов в ГНИ Р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Выдача отчетов для ОТиЗ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Работа с плановым отделом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(в перспективе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740360" y="6035760"/>
              <a:ext cx="4431960" cy="2009520"/>
            </a:xfrm>
            <a:prstGeom prst="wedgeRoundRectCallout">
              <a:avLst>
                <a:gd name="adj1" fmla="val -85671"/>
                <a:gd name="adj2" fmla="val 246842"/>
                <a:gd name="adj3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ff00"/>
                </a:gs>
              </a:gsLst>
              <a:lin ang="5400000"/>
            </a:gra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ctr">
              <a:noAutofit/>
            </a:bodyPr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День внедрения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421720" y="4419720"/>
              <a:ext cx="10744200" cy="15479280"/>
              <a:chOff x="20421720" y="4419720"/>
              <a:chExt cx="10744200" cy="15479280"/>
            </a:xfrm>
          </p:grpSpPr>
          <p:sp>
            <p:nvSpPr>
              <p:cNvPr id="57" name=""/>
              <p:cNvSpPr/>
              <p:nvPr/>
            </p:nvSpPr>
            <p:spPr>
              <a:xfrm flipH="1" flipV="1">
                <a:off x="24302520" y="15355800"/>
                <a:ext cx="5262840" cy="25178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421720" y="19318320"/>
                <a:ext cx="10210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Компьютеры в бухгалтериях подразделений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146000" y="13868280"/>
                <a:ext cx="2867040" cy="7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Сервер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200240" y="17108640"/>
                <a:ext cx="247356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21713760" y="15355440"/>
                <a:ext cx="2589120" cy="236700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24302880" y="15355800"/>
                <a:ext cx="1144800" cy="24386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2600" y="17108640"/>
                <a:ext cx="2473200" cy="22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70760" y="17184600"/>
                <a:ext cx="2373480" cy="21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273240" y="971388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393520" y="5070600"/>
                <a:ext cx="3295440" cy="34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 flipV="1">
                <a:off x="24534720" y="11239560"/>
                <a:ext cx="3430800" cy="1906560"/>
              </a:xfrm>
              <a:prstGeom prst="line">
                <a:avLst/>
              </a:prstGeom>
              <a:ln w="152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4456960" y="8421480"/>
                <a:ext cx="231840" cy="4267080"/>
              </a:xfrm>
              <a:prstGeom prst="line">
                <a:avLst/>
              </a:prstGeom>
              <a:ln w="15228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57480" y="5146560"/>
                <a:ext cx="3295440" cy="344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flipV="1">
                <a:off x="24456960" y="8373600"/>
                <a:ext cx="3016440" cy="4467240"/>
              </a:xfrm>
              <a:prstGeom prst="line">
                <a:avLst/>
              </a:prstGeom>
              <a:ln cap="rnd" w="152280">
                <a:solidFill>
                  <a:srgbClr val="3333cc"/>
                </a:solidFill>
                <a:custDash>
                  <a:ds d="100000" sp="1000"/>
                </a:custDash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211320" y="8763120"/>
                <a:ext cx="3954600" cy="10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налоговой политик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744760" y="460044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Плановый отдел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783680" y="441972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ОТи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704480" y="1192356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9-10-22T04:39:17Z</dcterms:modified>
  <cp:revision>38</cp:revision>
  <dc:subject/>
  <dc:title>Заголовок слайда отсутствует</dc:title>
</cp:coreProperties>
</file>