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29.png" ContentType="image/png"/>
  <Override PartName="/ppt/media/image2.wmf" ContentType="image/x-wmf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35BD-B5B6-4DBF-BE98-6E9206F9F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5814-0841-4EDE-98F5-909D5105B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DFEF-1DA6-4A26-B11A-D6863ABF4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99B2-EA91-4995-B1EA-2277B63F0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AD69B-4370-41C7-999E-DC72588AC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F7C15-E822-4DD1-B71E-7A1DDC338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508CF-37DF-40B2-B2E3-403038FE2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280F0-6602-4848-AB05-8F0E478B9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5661C-B919-4A60-BF7E-01A4BB5E1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AF2AB-4AC7-416F-AF53-C44FC24B7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1EE3F-F9BB-430D-B6FC-5BF40C05E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5C1B-E8E9-4905-9993-332DDABC8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77F3C-BDD8-483A-A212-EBB0F3C1C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81F8E-6AAD-4D55-AFC1-607A6980A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32F08-651D-4DA0-A9BB-92985FBA5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52845-2E8A-4EA0-86B1-881DB6D25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628C7-40AE-48BD-9D95-38A6D7420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6193-6975-46B5-A9FB-7F7ABAD78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B61D-08E2-4AAB-9D06-1D4C26333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16A9-89AF-49EF-864F-6CAD480FC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BB15-D72E-463B-A7DC-923535D70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27B7-A606-4D33-B9FD-A6554664F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D294-FF28-4F90-BF7B-09C481E27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AC4D-BD02-4BA1-BAE0-7A59FAD9B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CADED-422D-4254-8E86-AAB8D24876BE}" type="slidenum"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F48DE-6F16-461A-A2EB-98AFF0CB3C46}" type="slidenum"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7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7.png"/><Relationship Id="rId5" Type="http://schemas.openxmlformats.org/officeDocument/2006/relationships/image" Target="../media/image12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13.png"/><Relationship Id="rId10" Type="http://schemas.openxmlformats.org/officeDocument/2006/relationships/image" Target="../media/image7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7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7.png"/><Relationship Id="rId10" Type="http://schemas.openxmlformats.org/officeDocument/2006/relationships/image" Target="../media/image25.png"/><Relationship Id="rId11" Type="http://schemas.openxmlformats.org/officeDocument/2006/relationships/image" Target="../media/image7.png"/><Relationship Id="rId12" Type="http://schemas.openxmlformats.org/officeDocument/2006/relationships/image" Target="../media/image26.png"/><Relationship Id="rId1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62120" y="1600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imes New Roman"/>
              </a:rPr>
              <a:t>Дипломный проект</a:t>
            </a:r>
            <a:endParaRPr b="0" lang="en-US" sz="4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3276720"/>
            <a:ext cx="84582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Разработка системы по сбору информации о доходах физических лиц для формирования отчетности в ГНИ РФ по объединению СургутГазПром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646128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Сургут  1999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22860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Омский Государственный Технический Университет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5486400"/>
            <a:ext cx="443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Разработка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: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Геттих М.В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Руководитель: Чегодаев В.Н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990360"/>
            <a:ext cx="7086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Системные и сервисные функции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3" name=""/>
          <p:cNvSpPr/>
          <p:nvPr/>
        </p:nvSpPr>
        <p:spPr>
          <a:xfrm>
            <a:off x="431640" y="1981080"/>
            <a:ext cx="545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Реиндексация базы данных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28400" y="2514600"/>
            <a:ext cx="709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Резервное копирование базы данных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24800" y="3657600"/>
            <a:ext cx="697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Установка паролей и прав доступа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32000" y="4876920"/>
            <a:ext cx="217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Блокнот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0920" y="5486400"/>
            <a:ext cx="295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лькулятор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32000" y="6019920"/>
            <a:ext cx="244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лендарь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26600" y="3124080"/>
            <a:ext cx="831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Установка путей к АРМам подразделений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29480" y="4267080"/>
            <a:ext cx="63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Выбор текущего подразделения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1162080" y="1447920"/>
            <a:ext cx="7981920" cy="50925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6315120" y="2666880"/>
            <a:ext cx="2828880" cy="18003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4572000" y="1905120"/>
            <a:ext cx="3705120" cy="26287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5"/>
          <a:stretch/>
        </p:blipFill>
        <p:spPr>
          <a:xfrm>
            <a:off x="1523880" y="762120"/>
            <a:ext cx="7620120" cy="5715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6"/>
          <a:stretch/>
        </p:blipFill>
        <p:spPr>
          <a:xfrm>
            <a:off x="5638680" y="3962520"/>
            <a:ext cx="2476800" cy="24001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7"/>
          <a:stretch/>
        </p:blipFill>
        <p:spPr>
          <a:xfrm>
            <a:off x="3505320" y="3695760"/>
            <a:ext cx="4581360" cy="316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5334120" y="3276720"/>
            <a:ext cx="3295440" cy="26762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838080" y="990720"/>
            <a:ext cx="7086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Информация о средствах разработки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205740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Разработка проведена на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Delphi 4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2514600"/>
            <a:ext cx="815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С использованием СУБД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InterBase v 5.0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4952880" y="4267080"/>
            <a:ext cx="2838600" cy="190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600" y="990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Общая информация о продукте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2057400"/>
            <a:ext cx="7848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Для работы необходимо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38080" y="2514600"/>
            <a:ext cx="6019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SzPct val="6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Windows 95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Windows NT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38080" y="2971800"/>
            <a:ext cx="6553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SzPct val="6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Сеть под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Windows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95 (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Windows NT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4920" y="3733920"/>
            <a:ext cx="7848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Стоимость разработки 68000 рублей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04920" y="39625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В настоящее время разработка находится в промышленной эксплуатации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143000" y="990720"/>
            <a:ext cx="6858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Заключение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0880" y="18288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Внедрение разработки позволяет: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0880" y="2362320"/>
            <a:ext cx="8763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Значительно упростить и ускорить процесс подготовки отчетов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0880" y="3581280"/>
            <a:ext cx="8763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Повысить качество отчетности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0880" y="4191120"/>
            <a:ext cx="8763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Получить качественно новые, недоступные ранее виды отчетов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880" y="5257800"/>
            <a:ext cx="8763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Получить общую картину о заработной плате в объединении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80880" y="21337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Спасибо за внимание ...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987480" y="990720"/>
            <a:ext cx="417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ОАО СургутГазПром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560" y="3352680"/>
            <a:ext cx="909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За двадцать лет добыто более 384571,7 м</a:t>
            </a:r>
            <a:r>
              <a:rPr b="1" i="1" lang="ru-RU" sz="3200" spc="-1" strike="noStrike" baseline="30000">
                <a:solidFill>
                  <a:srgbClr val="ffffff"/>
                </a:solidFill>
                <a:latin typeface="Times New Roman"/>
              </a:rPr>
              <a:t>3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газа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9320" y="2085840"/>
            <a:ext cx="326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Создан в 1977г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6080" y="2743200"/>
            <a:ext cx="764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Состоит из 25 крупных подразделений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5562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Назначение разработки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3880" y="22096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автоматизация работы отдела налоговой политики, отдела ОТиЗ предприятия «СургутГазПром» и бухгалтерий его территориально распределённых подразделений в области отчетности с заработной платы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Необходимость в собственной разработки обусловлена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Специфичностью организации предприятия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Применяемой СУБД для расчета заработной платы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Возможной интеграцией системы с уже существующими на предприятии программными комплексами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 flipV="1">
            <a:off x="6875640" y="3047760"/>
            <a:ext cx="896760" cy="1315800"/>
          </a:xfrm>
          <a:prstGeom prst="line">
            <a:avLst/>
          </a:prstGeom>
          <a:ln cap="rnd" w="76320">
            <a:solidFill>
              <a:srgbClr val="9999ff"/>
            </a:solidFill>
            <a:custDash>
              <a:ds d="100000" sp="1000"/>
            </a:custDash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Основные возможности программы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Сбор информации о доходах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25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6808320" y="5230440"/>
            <a:ext cx="1629000" cy="762120"/>
          </a:xfrm>
          <a:prstGeom prst="line">
            <a:avLst/>
          </a:prstGeom>
          <a:ln w="76320">
            <a:solidFill>
              <a:srgbClr val="0000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607000" y="6431040"/>
            <a:ext cx="316080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9600" rIns="39600" tIns="19800" bIns="19800" anchor="t">
            <a:spAutoFit/>
          </a:bodyPr>
          <a:p>
            <a:pPr algn="ctr">
              <a:tabLst>
                <a:tab algn="l" pos="0"/>
                <a:tab algn="l" pos="395280"/>
                <a:tab algn="l" pos="790560"/>
                <a:tab algn="l" pos="1185840"/>
                <a:tab algn="l" pos="1581120"/>
                <a:tab algn="l" pos="1976400"/>
                <a:tab algn="l" pos="2371680"/>
                <a:tab algn="l" pos="2766960"/>
                <a:tab algn="l" pos="3162240"/>
                <a:tab algn="l" pos="3557520"/>
                <a:tab algn="l" pos="3952800"/>
                <a:tab algn="l" pos="4348080"/>
                <a:tab algn="l" pos="4743360"/>
                <a:tab algn="l" pos="5138640"/>
                <a:tab algn="l" pos="5533920"/>
                <a:tab algn="l" pos="5929200"/>
                <a:tab algn="l" pos="6324480"/>
                <a:tab algn="l" pos="6719760"/>
                <a:tab algn="l" pos="7115040"/>
                <a:tab algn="l" pos="7510320"/>
                <a:tab algn="l" pos="7905600"/>
              </a:tabLst>
            </a:pPr>
            <a:r>
              <a:rPr b="0" lang="ru-RU" sz="1200" spc="-1" strike="noStrike">
                <a:solidFill>
                  <a:srgbClr val="ccecff"/>
                </a:solidFill>
                <a:latin typeface="Times New Roman"/>
              </a:rPr>
              <a:t>Компьютеры в бухгалтериях подразделений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327800" y="4791240"/>
            <a:ext cx="8254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9600" rIns="39600" tIns="19800" bIns="19800" anchor="t">
            <a:spAutoFit/>
          </a:bodyPr>
          <a:p>
            <a:pPr algn="ctr">
              <a:tabLst>
                <a:tab algn="l" pos="0"/>
                <a:tab algn="l" pos="395280"/>
                <a:tab algn="l" pos="790560"/>
                <a:tab algn="l" pos="1185840"/>
                <a:tab algn="l" pos="1581120"/>
                <a:tab algn="l" pos="1976400"/>
                <a:tab algn="l" pos="2371680"/>
                <a:tab algn="l" pos="2766960"/>
                <a:tab algn="l" pos="3162240"/>
                <a:tab algn="l" pos="3557520"/>
                <a:tab algn="l" pos="3952800"/>
                <a:tab algn="l" pos="4348080"/>
                <a:tab algn="l" pos="4743360"/>
                <a:tab algn="l" pos="5138640"/>
                <a:tab algn="l" pos="5533920"/>
                <a:tab algn="l" pos="5929200"/>
                <a:tab algn="l" pos="6324480"/>
                <a:tab algn="l" pos="6719760"/>
                <a:tab algn="l" pos="7115040"/>
                <a:tab algn="l" pos="7510320"/>
                <a:tab algn="l" pos="7905600"/>
              </a:tabLst>
            </a:pPr>
            <a:r>
              <a:rPr b="0" lang="ru-RU" sz="1600" spc="-1" strike="noStrike">
                <a:solidFill>
                  <a:srgbClr val="ccecff"/>
                </a:solidFill>
                <a:latin typeface="Times New Roman"/>
              </a:rPr>
              <a:t>Сервер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021520" y="5761080"/>
            <a:ext cx="750960" cy="6778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 flipV="1">
            <a:off x="6006960" y="5230440"/>
            <a:ext cx="801720" cy="716040"/>
          </a:xfrm>
          <a:prstGeom prst="line">
            <a:avLst/>
          </a:prstGeom>
          <a:ln w="76320">
            <a:solidFill>
              <a:srgbClr val="0000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 flipV="1">
            <a:off x="6808680" y="5230440"/>
            <a:ext cx="354240" cy="738360"/>
          </a:xfrm>
          <a:prstGeom prst="line">
            <a:avLst/>
          </a:prstGeom>
          <a:ln w="76320">
            <a:solidFill>
              <a:srgbClr val="0000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6818400" y="5761080"/>
            <a:ext cx="750960" cy="6778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5661000" y="5784840"/>
            <a:ext cx="719280" cy="6494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7738920" y="3521160"/>
            <a:ext cx="1000440" cy="10461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6537240" y="2112840"/>
            <a:ext cx="998640" cy="10447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 flipV="1">
            <a:off x="6880320" y="3982680"/>
            <a:ext cx="1062000" cy="577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6856560" y="3128760"/>
            <a:ext cx="71280" cy="1293480"/>
          </a:xfrm>
          <a:prstGeom prst="line">
            <a:avLst/>
          </a:prstGeom>
          <a:ln w="76320">
            <a:solidFill>
              <a:srgbClr val="008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7"/>
          <a:stretch/>
        </p:blipFill>
        <p:spPr>
          <a:xfrm>
            <a:off x="7772400" y="1981080"/>
            <a:ext cx="998640" cy="10447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324480" y="4191120"/>
            <a:ext cx="1000080" cy="10461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7620120" y="1752480"/>
            <a:ext cx="136836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9600" rIns="39600" tIns="19800" bIns="19800" anchor="t">
            <a:spAutoFit/>
          </a:bodyPr>
          <a:p>
            <a:pPr algn="ctr">
              <a:tabLst>
                <a:tab algn="l" pos="0"/>
                <a:tab algn="l" pos="395280"/>
                <a:tab algn="l" pos="790560"/>
                <a:tab algn="l" pos="1185840"/>
                <a:tab algn="l" pos="1581120"/>
                <a:tab algn="l" pos="1976400"/>
                <a:tab algn="l" pos="2371680"/>
                <a:tab algn="l" pos="2766960"/>
                <a:tab algn="l" pos="3162240"/>
                <a:tab algn="l" pos="3557520"/>
                <a:tab algn="l" pos="3952800"/>
                <a:tab algn="l" pos="4348080"/>
                <a:tab algn="l" pos="4743360"/>
                <a:tab algn="l" pos="5138640"/>
                <a:tab algn="l" pos="5533920"/>
                <a:tab algn="l" pos="5929200"/>
                <a:tab algn="l" pos="6324480"/>
                <a:tab algn="l" pos="6719760"/>
                <a:tab algn="l" pos="7115040"/>
                <a:tab algn="l" pos="7510320"/>
                <a:tab algn="l" pos="7905600"/>
              </a:tabLst>
            </a:pPr>
            <a:r>
              <a:rPr b="0" lang="ru-RU" sz="1200" spc="-1" strike="noStrike">
                <a:solidFill>
                  <a:srgbClr val="ccecff"/>
                </a:solidFill>
                <a:latin typeface="Times New Roman"/>
              </a:rPr>
              <a:t>Плановый отдел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324480" y="1905120"/>
            <a:ext cx="136872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9600" rIns="39600" tIns="19800" bIns="19800" anchor="t">
            <a:spAutoFit/>
          </a:bodyPr>
          <a:p>
            <a:pPr algn="ctr">
              <a:tabLst>
                <a:tab algn="l" pos="0"/>
                <a:tab algn="l" pos="395280"/>
                <a:tab algn="l" pos="790560"/>
                <a:tab algn="l" pos="1185840"/>
                <a:tab algn="l" pos="1581120"/>
                <a:tab algn="l" pos="1976400"/>
                <a:tab algn="l" pos="2371680"/>
                <a:tab algn="l" pos="2766960"/>
                <a:tab algn="l" pos="3162240"/>
                <a:tab algn="l" pos="3557520"/>
                <a:tab algn="l" pos="3952800"/>
                <a:tab algn="l" pos="4348080"/>
                <a:tab algn="l" pos="4743360"/>
                <a:tab algn="l" pos="5138640"/>
                <a:tab algn="l" pos="5533920"/>
                <a:tab algn="l" pos="5929200"/>
                <a:tab algn="l" pos="6324480"/>
                <a:tab algn="l" pos="6719760"/>
                <a:tab algn="l" pos="7115040"/>
                <a:tab algn="l" pos="7510320"/>
                <a:tab algn="l" pos="7905600"/>
              </a:tabLst>
            </a:pPr>
            <a:r>
              <a:rPr b="0" lang="ru-RU" sz="1200" spc="-1" strike="noStrike">
                <a:solidFill>
                  <a:srgbClr val="ccecff"/>
                </a:solidFill>
                <a:latin typeface="Times New Roman"/>
              </a:rPr>
              <a:t>Отдел ОТиЗ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20120" y="3124080"/>
            <a:ext cx="1260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9600" rIns="39600" tIns="19800" bIns="19800" anchor="t">
            <a:spAutoFit/>
          </a:bodyPr>
          <a:p>
            <a:pPr algn="ctr">
              <a:tabLst>
                <a:tab algn="l" pos="0"/>
                <a:tab algn="l" pos="395280"/>
                <a:tab algn="l" pos="790560"/>
                <a:tab algn="l" pos="1185840"/>
                <a:tab algn="l" pos="1581120"/>
                <a:tab algn="l" pos="1976400"/>
                <a:tab algn="l" pos="2371680"/>
                <a:tab algn="l" pos="2766960"/>
                <a:tab algn="l" pos="3162240"/>
                <a:tab algn="l" pos="3557520"/>
                <a:tab algn="l" pos="3952800"/>
                <a:tab algn="l" pos="4348080"/>
                <a:tab algn="l" pos="4743360"/>
                <a:tab algn="l" pos="5138640"/>
                <a:tab algn="l" pos="5533920"/>
                <a:tab algn="l" pos="5929200"/>
                <a:tab algn="l" pos="6324480"/>
                <a:tab algn="l" pos="6719760"/>
                <a:tab algn="l" pos="7115040"/>
                <a:tab algn="l" pos="7510320"/>
                <a:tab algn="l" pos="7905600"/>
              </a:tabLst>
            </a:pPr>
            <a:r>
              <a:rPr b="0" lang="ru-RU" sz="1200" spc="-1" strike="noStrike">
                <a:solidFill>
                  <a:srgbClr val="ccecff"/>
                </a:solidFill>
                <a:latin typeface="Times New Roman"/>
              </a:rPr>
              <a:t>Отдел налоговой политики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251460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Перерасчет подоходного налога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304812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Формирование отчетов в Гни РФ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7160" y="3657600"/>
            <a:ext cx="544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Выдача отчетов для ОТиЗ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20" y="4572000"/>
            <a:ext cx="5721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Работа с плановым отделом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(в перспективе)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094960" y="198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523880" y="1981080"/>
            <a:ext cx="7032600" cy="4488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752480" y="1828800"/>
            <a:ext cx="6553440" cy="47196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Сбор информации из АРМов заработная плата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1371600" y="2286000"/>
            <a:ext cx="7496280" cy="36194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 flipH="1" rot="10800000">
            <a:off x="6248520" y="4571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 flipH="1" rot="10800000">
            <a:off x="5943600" y="22093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7"/>
          <a:stretch/>
        </p:blipFill>
        <p:spPr>
          <a:xfrm>
            <a:off x="2133720" y="2743200"/>
            <a:ext cx="4181400" cy="18572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8"/>
          <a:stretch/>
        </p:blipFill>
        <p:spPr>
          <a:xfrm flipH="1" rot="10800000">
            <a:off x="5181480" y="3580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9"/>
          <a:stretch/>
        </p:blipFill>
        <p:spPr>
          <a:xfrm>
            <a:off x="3505320" y="3505320"/>
            <a:ext cx="3085920" cy="102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Информационно справочная служба системы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057400" y="1700280"/>
            <a:ext cx="7086600" cy="51037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990720" y="2362320"/>
            <a:ext cx="5105160" cy="42735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 flipH="1" rot="10800000">
            <a:off x="5410080" y="2133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1981080" y="1700280"/>
            <a:ext cx="7162920" cy="51577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2133720" y="2743200"/>
            <a:ext cx="4181400" cy="18572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7"/>
          <a:stretch/>
        </p:blipFill>
        <p:spPr>
          <a:xfrm flipH="1" rot="10800000">
            <a:off x="5257800" y="35053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8"/>
          <a:stretch/>
        </p:blipFill>
        <p:spPr>
          <a:xfrm flipH="1" rot="10800000">
            <a:off x="5334120" y="2590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9"/>
          <a:stretch/>
        </p:blipFill>
        <p:spPr>
          <a:xfrm>
            <a:off x="990720" y="743040"/>
            <a:ext cx="8153280" cy="61149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10"/>
          <a:stretch/>
        </p:blipFill>
        <p:spPr>
          <a:xfrm flipH="1" rot="10800000">
            <a:off x="4419720" y="3962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1"/>
          <a:stretch/>
        </p:blipFill>
        <p:spPr>
          <a:xfrm>
            <a:off x="304920" y="114300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Режим проверки подоходного налога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057400" y="1755720"/>
            <a:ext cx="7086600" cy="51022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3429000" y="3124080"/>
            <a:ext cx="4324320" cy="15242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3048120" y="4419720"/>
            <a:ext cx="3305160" cy="13334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 flipH="1" rot="10800000">
            <a:off x="4038480" y="2437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6"/>
          <a:stretch/>
        </p:blipFill>
        <p:spPr>
          <a:xfrm flipH="1" rot="10800000">
            <a:off x="6553080" y="38858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7"/>
          <a:stretch/>
        </p:blipFill>
        <p:spPr>
          <a:xfrm>
            <a:off x="380880" y="1676520"/>
            <a:ext cx="8458200" cy="45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04920" y="3505320"/>
            <a:ext cx="624996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000" spc="-1" strike="noStrike">
                <a:solidFill>
                  <a:srgbClr val="ffffff"/>
                </a:solidFill>
                <a:latin typeface="Times New Roman"/>
              </a:rPr>
              <a:t>Отчеты для планового отдела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Times New Roman"/>
              </a:rPr>
              <a:t>(в перспективе)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2666880"/>
            <a:ext cx="57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Отчеты для ОТиЗ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486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Производство отчетности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5486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Отчеты в Гни РФ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2209680" y="1828800"/>
            <a:ext cx="6553440" cy="4521240"/>
            <a:chOff x="2209680" y="1828800"/>
            <a:chExt cx="6553440" cy="4521240"/>
          </a:xfrm>
        </p:grpSpPr>
        <p:pic>
          <p:nvPicPr>
            <p:cNvPr id="154" name="" descr=""/>
            <p:cNvPicPr/>
            <p:nvPr/>
          </p:nvPicPr>
          <p:blipFill>
            <a:blip r:embed="rId2"/>
            <a:stretch/>
          </p:blipFill>
          <p:spPr>
            <a:xfrm>
              <a:off x="2209680" y="1828800"/>
              <a:ext cx="6553440" cy="452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2362320" y="2286000"/>
              <a:ext cx="464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Налоговая карточка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362320" y="2819520"/>
              <a:ext cx="617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Отчет об итоговых суммах доходов и п/н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352680"/>
              <a:ext cx="6248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Реестр сведений о доходах физических лиц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362320" y="3886200"/>
              <a:ext cx="6095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Список работников с прогрессивным налогообложением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62320" y="4724280"/>
              <a:ext cx="609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Справка о доходах физического лица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362320" y="5181480"/>
              <a:ext cx="6019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8000"/>
                  </a:solidFill>
                  <a:latin typeface="Tahoma"/>
                </a:rPr>
                <a:t> </a:t>
              </a: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Файл на магнитный носитель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914400" y="1828800"/>
            <a:ext cx="8043840" cy="35100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 flipH="1" rot="10800000">
            <a:off x="5105520" y="28951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5"/>
          <a:stretch/>
        </p:blipFill>
        <p:spPr>
          <a:xfrm>
            <a:off x="685800" y="457200"/>
            <a:ext cx="8458200" cy="6167520"/>
          </a:xfrm>
          <a:prstGeom prst="rect">
            <a:avLst/>
          </a:prstGeom>
          <a:ln w="0">
            <a:noFill/>
          </a:ln>
        </p:spPr>
      </p:pic>
      <p:grpSp>
        <p:nvGrpSpPr>
          <p:cNvPr id="164" name=""/>
          <p:cNvGrpSpPr/>
          <p:nvPr/>
        </p:nvGrpSpPr>
        <p:grpSpPr>
          <a:xfrm>
            <a:off x="380880" y="1295280"/>
            <a:ext cx="8763120" cy="5181840"/>
            <a:chOff x="380880" y="1295280"/>
            <a:chExt cx="8763120" cy="5181840"/>
          </a:xfrm>
        </p:grpSpPr>
        <p:pic>
          <p:nvPicPr>
            <p:cNvPr id="165" name="" descr=""/>
            <p:cNvPicPr/>
            <p:nvPr/>
          </p:nvPicPr>
          <p:blipFill>
            <a:blip r:embed="rId6"/>
            <a:stretch/>
          </p:blipFill>
          <p:spPr>
            <a:xfrm>
              <a:off x="380880" y="1295280"/>
              <a:ext cx="8610840" cy="518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457200" y="1676520"/>
              <a:ext cx="83818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Состав ФЗП согласно классификатора должностей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57200" y="2057400"/>
              <a:ext cx="85345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Состав ФЗП согласно классификатора кодов по начислению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57200" y="2438280"/>
              <a:ext cx="5029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Состав ФЗП по участкам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7200" y="2819520"/>
              <a:ext cx="5029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Состав ФЗП по цехам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3200400"/>
              <a:ext cx="6858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Отчет по составу ФЗП, ФМП, прочих фондов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7200" y="3581280"/>
              <a:ext cx="8305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Свод по начислениям с отображением балансовых счетов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7200" y="4343400"/>
              <a:ext cx="8077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Отчет по численности и заработной плате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7200" y="3962520"/>
              <a:ext cx="8077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Свод по отпускам и отгулам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" y="4724280"/>
              <a:ext cx="8686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Состав ФЗП согласно классификатора категорий персонала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57200" y="5181480"/>
              <a:ext cx="8305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0000"/>
            </a:bodyPr>
            <a:p>
              <a:pPr marL="240120" indent="-240120">
                <a:lnSpc>
                  <a:spcPct val="100000"/>
                </a:lnSpc>
                <a:spcBef>
                  <a:spcPts val="601"/>
                </a:spcBef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Отчет о размере ФЗП по произвольному коду начисления, цеху, участку и периоду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7"/>
          <a:stretch/>
        </p:blipFill>
        <p:spPr>
          <a:xfrm>
            <a:off x="285840" y="1143000"/>
            <a:ext cx="8572320" cy="45720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8"/>
          <a:stretch/>
        </p:blipFill>
        <p:spPr>
          <a:xfrm>
            <a:off x="304920" y="2438280"/>
            <a:ext cx="6019560" cy="41497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9"/>
          <a:stretch/>
        </p:blipFill>
        <p:spPr>
          <a:xfrm flipH="1" rot="10800000">
            <a:off x="4038480" y="2819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10"/>
          <a:stretch/>
        </p:blipFill>
        <p:spPr>
          <a:xfrm>
            <a:off x="457200" y="1676520"/>
            <a:ext cx="8572680" cy="46670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11"/>
          <a:stretch/>
        </p:blipFill>
        <p:spPr>
          <a:xfrm flipH="1" rot="10800000">
            <a:off x="4191120" y="23623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12"/>
          <a:stretch/>
        </p:blipFill>
        <p:spPr>
          <a:xfrm>
            <a:off x="1219320" y="992160"/>
            <a:ext cx="7696080" cy="5611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еттих М.В.</cp:lastModifiedBy>
  <dcterms:modified xsi:type="dcterms:W3CDTF">1990-10-20T18:01:51Z</dcterms:modified>
  <cp:revision>199</cp:revision>
  <dc:subject/>
  <dc:title>Заголовок слайда отсутствует</dc:title>
</cp:coreProperties>
</file>