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7F21-16E2-4DBA-8C87-E2F51493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477-54EC-4453-8892-13A730C1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0E2-2EBE-4BA9-B96F-A68ACC60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11E-95AB-4883-BA8D-5A17A7C8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4472-BB3A-4BD1-9C5E-953F6D21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3D49-B4AC-460F-ADD8-F79E1BC0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820-42DD-46F8-A780-001624EC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968-D1A7-422C-84EE-EB737EB1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DAE-1896-461D-B8DC-4DA30261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2B6-9DFE-4675-88B1-0E87FB15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6BB-D4D2-41AA-8790-9CFC6F62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D147-06BA-40E1-97B6-8041B40A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5BD6-2645-4C73-8B3C-7C8649873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43000" y="529200"/>
            <a:ext cx="7176960" cy="5704920"/>
            <a:chOff x="1143000" y="529200"/>
            <a:chExt cx="7176960" cy="5704920"/>
          </a:xfrm>
        </p:grpSpPr>
        <p:grpSp>
          <p:nvGrpSpPr>
            <p:cNvPr id="42" name=""/>
            <p:cNvGrpSpPr/>
            <p:nvPr/>
          </p:nvGrpSpPr>
          <p:grpSpPr>
            <a:xfrm>
              <a:off x="1143000" y="529200"/>
              <a:ext cx="7176960" cy="4433400"/>
              <a:chOff x="1143000" y="529200"/>
              <a:chExt cx="7176960" cy="4433400"/>
            </a:xfrm>
          </p:grpSpPr>
          <p:sp>
            <p:nvSpPr>
              <p:cNvPr id="43" name=""/>
              <p:cNvSpPr/>
              <p:nvPr/>
            </p:nvSpPr>
            <p:spPr>
              <a:xfrm>
                <a:off x="2346120" y="44611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" name=""/>
              <p:cNvGrpSpPr/>
              <p:nvPr/>
            </p:nvGrpSpPr>
            <p:grpSpPr>
              <a:xfrm>
                <a:off x="3657600" y="2676600"/>
                <a:ext cx="1904760" cy="685800"/>
                <a:chOff x="3657600" y="2676600"/>
                <a:chExt cx="1904760" cy="6858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3657600" y="2676600"/>
                  <a:ext cx="1904760" cy="68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945240" y="2764080"/>
                  <a:ext cx="13939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СургутГазПром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аппара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" name=""/>
              <p:cNvSpPr/>
              <p:nvPr/>
            </p:nvSpPr>
            <p:spPr>
              <a:xfrm rot="17104200">
                <a:off x="3235320" y="971280"/>
                <a:ext cx="152280" cy="2667240"/>
              </a:xfrm>
              <a:prstGeom prst="downArrow">
                <a:avLst>
                  <a:gd name="adj1" fmla="val 49676"/>
                  <a:gd name="adj2" fmla="val 37025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4371600">
                <a:off x="5720040" y="1129680"/>
                <a:ext cx="149400" cy="2351160"/>
              </a:xfrm>
              <a:prstGeom prst="downArrow">
                <a:avLst>
                  <a:gd name="adj1" fmla="val 49676"/>
                  <a:gd name="adj2" fmla="val 33267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9392600">
                <a:off x="3830400" y="457200"/>
                <a:ext cx="136800" cy="2422800"/>
              </a:xfrm>
              <a:prstGeom prst="downArrow">
                <a:avLst>
                  <a:gd name="adj1" fmla="val 49676"/>
                  <a:gd name="adj2" fmla="val 374381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653600">
                <a:off x="5081040" y="555480"/>
                <a:ext cx="152640" cy="2209680"/>
              </a:xfrm>
              <a:prstGeom prst="downArrow">
                <a:avLst>
                  <a:gd name="adj1" fmla="val 49676"/>
                  <a:gd name="adj2" fmla="val 30601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2895480" y="529200"/>
                <a:ext cx="1096920" cy="609840"/>
                <a:chOff x="2895480" y="529200"/>
                <a:chExt cx="1096920" cy="6098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2895480" y="619200"/>
                  <a:ext cx="109692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20834400">
                  <a:off x="2947680" y="6346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941000" y="544320"/>
                <a:ext cx="1471320" cy="583200"/>
                <a:chOff x="4941000" y="544320"/>
                <a:chExt cx="1471320" cy="583200"/>
              </a:xfrm>
            </p:grpSpPr>
            <p:sp>
              <p:nvSpPr>
                <p:cNvPr id="55" name=""/>
                <p:cNvSpPr/>
                <p:nvPr/>
              </p:nvSpPr>
              <p:spPr>
                <a:xfrm rot="197400">
                  <a:off x="4952880" y="619200"/>
                  <a:ext cx="1447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663600">
                  <a:off x="5198400" y="6364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К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143000" y="1183320"/>
                <a:ext cx="2193840" cy="1113120"/>
                <a:chOff x="1143000" y="1183320"/>
                <a:chExt cx="2193840" cy="11131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143000" y="1533600"/>
                  <a:ext cx="219384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8885600">
                  <a:off x="1670040" y="1540440"/>
                  <a:ext cx="11728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Times New Roman"/>
                    </a:rPr>
                    <a:t>          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5486400" y="1316520"/>
                <a:ext cx="2833560" cy="991080"/>
                <a:chOff x="5486400" y="1316520"/>
                <a:chExt cx="2833560" cy="991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486400" y="1609560"/>
                  <a:ext cx="2833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2712000">
                  <a:off x="6401880" y="161244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733560" y="4505400"/>
                <a:ext cx="1600200" cy="457200"/>
              </a:xfrm>
              <a:prstGeom prst="rec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ГНИ РФ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43400" y="3362400"/>
                <a:ext cx="485640" cy="1066680"/>
              </a:xfrm>
              <a:prstGeom prst="downArrow">
                <a:avLst>
                  <a:gd name="adj1" fmla="val 50000"/>
                  <a:gd name="adj2" fmla="val 54911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676520" y="5410080"/>
              <a:ext cx="4857120" cy="824040"/>
              <a:chOff x="1676520" y="5410080"/>
              <a:chExt cx="4857120" cy="824040"/>
            </a:xfrm>
          </p:grpSpPr>
          <p:sp>
            <p:nvSpPr>
              <p:cNvPr id="66" name=""/>
              <p:cNvSpPr/>
              <p:nvPr/>
            </p:nvSpPr>
            <p:spPr>
              <a:xfrm>
                <a:off x="1676520" y="550080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676520" y="599616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649320" y="5410080"/>
                <a:ext cx="2884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от подразделений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в налоговую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51:45Z</dcterms:created>
  <dc:creator>Геттих М.В.</dc:creator>
  <dc:description/>
  <dc:language>en-US</dc:language>
  <cp:lastModifiedBy>Геттих М.В.</cp:lastModifiedBy>
  <cp:lastPrinted>1999-09-13T06:44:42Z</cp:lastPrinted>
  <dcterms:modified xsi:type="dcterms:W3CDTF">1999-09-17T09:53:14Z</dcterms:modified>
  <cp:revision>9</cp:revision>
  <dc:subject/>
  <dc:title>Заголовок слайда отсутствует</dc:title>
</cp:coreProperties>
</file>