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078-A521-4975-A3A1-0465B266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3ED-074D-469B-8421-E803A8FA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956-DD22-4593-A083-C5574906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57A-5ED2-47FA-AA27-86121C69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FF15-9EBF-4A6A-B7EF-8F419CA2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072B-DC87-4925-8155-D8CC5D00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B13D-4788-4D8B-9F28-6C3C166D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EC01-233D-4062-8553-F73A5C1F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A58F-2167-489F-B77C-F8A57591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B9F0-1007-41A3-8EA6-1350C3E8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ED6A-FCDA-4271-A209-987B1E1A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1F6-82C3-4980-8E2D-E38292DB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2365-9951-4A9A-BBB2-97B5C4BE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1E3B-3E90-4B00-A922-357A919A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F169-03F3-43AC-872F-05418F92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C31A-A625-466D-8BBA-B09B773D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4BC6-0F9E-44FE-8ED1-A9070E81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311-87B9-4A10-9E90-43D9F8F5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927-9F09-49C7-A902-53084806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700-DB8B-4720-890A-923404AA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903-4730-4250-9585-CC4A685E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B7C-6008-4581-82BF-865711AE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A84-E0A8-4570-8CFF-F9DF840E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087-9665-4DDB-BD9D-38E02FEA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C6C4-E8D2-4F14-B8EB-FB9CC410288C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B45D-C335-45D5-949D-B22CF1F662EA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ипломный проект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76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461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ргут  19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486400"/>
            <a:ext cx="44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работ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ттих М.В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водитель: Чегодаев В.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стемные и сервисные функци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98108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индексация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00" y="251460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ервное копирование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800" y="3657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аролей и прав доступ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00" y="4876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локно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920" y="5486400"/>
            <a:ext cx="29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ькулято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00" y="6019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ендар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600" y="3124080"/>
            <a:ext cx="83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утей к АРМам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9480" y="426708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бор текущего подразделен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62080" y="1447920"/>
            <a:ext cx="7981920" cy="509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15120" y="266688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3705120" cy="262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638680" y="3962520"/>
            <a:ext cx="247680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505320" y="369576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95440" cy="267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9907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я о средствах разработк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проведена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lphi 4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514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 использованием СУБД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Base v 5.0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3860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щая информация о продукт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работы необходимо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51460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95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9718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ть под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95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733920"/>
            <a:ext cx="7848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оимость разработки 68000 рубле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9625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ка находится в промышленной эксплуатации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990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недрение разработки позволяет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362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начительно упростить и ускорить процесс подготовки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ысить качество отчетност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191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качественно новые, недоступные ранее виды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2578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общую картину о заработной плате в объединен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99072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АО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60" y="3352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 двадцать лет добыто более 384571,7 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208584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здан в 1977г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080" y="2743200"/>
            <a:ext cx="76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стоит из 25 крупных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начение разработк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втоматизация работы отдела налоговой политики, отдела ОТиЗ предприятия «СургутГазПром» и бухгалтерий его территориально распределённых подразделений в области отчетности с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обходимость в собственной разработки обусловлен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фичностью организации предприятия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няемой СУБД для расчета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можной интеграцией системы с уже существующими на предприятии программными комплексами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6875640" y="3047760"/>
            <a:ext cx="896760" cy="131580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новные возможности програм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 о дохода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08320" y="5230440"/>
            <a:ext cx="1629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7000" y="6431040"/>
            <a:ext cx="3160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27800" y="4791240"/>
            <a:ext cx="825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imes New Roman"/>
              </a:rPr>
              <a:t>Сервер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1520" y="5761080"/>
            <a:ext cx="75096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06960" y="5230440"/>
            <a:ext cx="801720" cy="716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08680" y="5230440"/>
            <a:ext cx="354240" cy="73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18400" y="5761080"/>
            <a:ext cx="750960" cy="67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61000" y="57848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38920" y="3521160"/>
            <a:ext cx="1000440" cy="104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37240" y="2112840"/>
            <a:ext cx="998640" cy="104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80320" y="3982680"/>
            <a:ext cx="1062000" cy="57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6560" y="3128760"/>
            <a:ext cx="71280" cy="1293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772400" y="1981080"/>
            <a:ext cx="99864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24480" y="4191120"/>
            <a:ext cx="1000080" cy="104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752480"/>
            <a:ext cx="1368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Плановый отдел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905120"/>
            <a:ext cx="1368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ОТиЗ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124080"/>
            <a:ext cx="12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налоговой политик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14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расчет подоходного нало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отчетов в Гни Р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60" y="365760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дача отчетов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" y="4572000"/>
            <a:ext cx="57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с плановым отдел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496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32600" cy="448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6553440" cy="471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бор информации из АРМов заработная плат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7496280" cy="36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flipH="1" rot="10800000">
            <a:off x="6248520" y="457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flipH="1" rot="10800000">
            <a:off x="5943600" y="2209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flipH="1" rot="10800000">
            <a:off x="5181480" y="3580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0859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онно справочная служба систе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1700280"/>
            <a:ext cx="7086600" cy="510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5105160" cy="4273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 rot="10800000">
            <a:off x="5410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81080" y="1700280"/>
            <a:ext cx="7162920" cy="515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 flipH="1" rot="10800000"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 flipH="1" rot="10800000">
            <a:off x="53341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flipH="1" rot="10800000">
            <a:off x="44197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жим проверки подоходного налог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1755720"/>
            <a:ext cx="7086600" cy="510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4324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3305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flipH="1" rot="10800000">
            <a:off x="4038480" y="243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 flipH="1" rot="10800000">
            <a:off x="6553080" y="3885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80880" y="1676520"/>
            <a:ext cx="845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505320"/>
            <a:ext cx="6249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Отчеты для планового отдела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изводство отчетност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в Гни Р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1828800"/>
            <a:ext cx="6553440" cy="4521240"/>
            <a:chOff x="2209680" y="1828800"/>
            <a:chExt cx="6553440" cy="45212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09680" y="1828800"/>
              <a:ext cx="65534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62320" y="228600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Налоговая карточк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81952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б итоговых суммах доходов и п/н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3526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Реестр сведений о доходах физических лиц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886200"/>
              <a:ext cx="609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исок работников с прогрессивным налогообложение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72428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равка о доходах физического лиц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51814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Файл на магнитный носител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043840" cy="351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2895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8458200" cy="6167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0880" y="1295280"/>
            <a:ext cx="8763120" cy="5181840"/>
            <a:chOff x="380880" y="1295280"/>
            <a:chExt cx="8763120" cy="518184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8610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16765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должностей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057400"/>
              <a:ext cx="8534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одов по начислению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43828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участк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81952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цех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200400"/>
              <a:ext cx="68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составу ФЗП, ФМП, прочих фонд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35812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начислениям с отображением балансовых счет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434340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численности и заработной плате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96252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отпускам и отгул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724280"/>
              <a:ext cx="868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атегорий персонал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51814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 размере ФЗП по произвольному коду начисления, цеху, участку и периоду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85840" y="1143000"/>
            <a:ext cx="857232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04920" y="2438280"/>
            <a:ext cx="6019560" cy="414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 flipH="1" rot="10800000">
            <a:off x="4038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8572680" cy="46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 flipH="1" rot="10800000"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1219320" y="992160"/>
            <a:ext cx="76960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ттих М.В.</cp:lastModifiedBy>
  <dcterms:modified xsi:type="dcterms:W3CDTF">1990-10-20T18:01:51Z</dcterms:modified>
  <cp:revision>199</cp:revision>
  <dc:subject/>
  <dc:title>Заголовок слайда отсутствует</dc:title>
</cp:coreProperties>
</file>